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555-0A1D-4E89-9815-C664D040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D3B2-77C8-44FA-B36F-67EB89E0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B15-364F-4866-B3D7-F586EF70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4CA1-6B49-4BCA-862A-CA79E4F6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F79B-7F60-4E76-9899-52E9CC17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C14-2C9F-4FBC-B903-F8A6674F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EA41-C072-4061-9FEC-AB87D308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027-D09F-4133-9C9E-E788D392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F7D-9032-4A4D-BF6A-691922EC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BAF2-B225-4CE4-AC0B-450D28BE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8AF-E5EE-42C7-AC58-2FE90432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2EC-0803-4631-BF08-489E3E62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C177-89EB-464A-9D0E-40B490937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3:15:02Z</dcterms:created>
  <dc:creator>Wendy</dc:creator>
  <dc:description/>
  <dc:language>en-US</dc:language>
  <cp:lastModifiedBy>Wendy</cp:lastModifiedBy>
  <dcterms:modified xsi:type="dcterms:W3CDTF">2007-12-04T03:15:13Z</dcterms:modified>
  <cp:revision>1</cp:revision>
  <dc:subject/>
  <dc:title>Slide 1</dc:title>
</cp:coreProperties>
</file>