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B7F-085D-408D-9231-F0676AD1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E90-9BEC-4898-9E14-71AE0285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297-39C0-47AA-8109-887B4BFD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CA7-36B2-4536-8B8F-5E6A7922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122-353E-47FA-A734-EBB958E0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F66-9F80-4AF3-8345-0F8C9EFD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443-7140-47AD-B8AE-C98F5393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C53-441C-48E1-A5A3-A99FB4E3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53C-9795-44BC-B597-1FDD1733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7E6-210A-427C-992B-608311E1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623-C693-432C-8515-F414D13B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59F-E959-4428-B7B0-54777C3A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13D8-312A-492E-878C-E8512B1C2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550760" cy="1015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3:15:02Z</dcterms:created>
  <dc:creator>Wendy</dc:creator>
  <dc:description/>
  <dc:language>en-US</dc:language>
  <cp:lastModifiedBy>Wendy</cp:lastModifiedBy>
  <dcterms:modified xsi:type="dcterms:W3CDTF">2007-12-04T03:15:13Z</dcterms:modified>
  <cp:revision>1</cp:revision>
  <dc:subject/>
  <dc:title>Slide 1</dc:title>
</cp:coreProperties>
</file>