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835-58C1-4FF8-A567-4AE7233B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8FA-69A6-4AD7-992E-92BA2E2D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7ED-0FB0-4E65-9017-12F7443A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7B4-FE51-49B1-A27E-D5F98E5E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1C5-4A66-4254-B8F2-7E92AB0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AA8-E403-41DB-9DF4-35D8C17B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CA0-F1CA-40ED-B636-CBA9812E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866-98DC-430B-A784-453E1039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465-75C6-499C-8839-BE72CAB1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57A-380B-4FD4-9F41-B322885C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BDD-CA72-4365-B121-EBC113BB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45C-A3A1-42E5-8314-A843794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CAAB-9AAE-4F21-8919-E720E9B60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15:02Z</dcterms:created>
  <dc:creator>Wendy</dc:creator>
  <dc:description/>
  <dc:language>en-US</dc:language>
  <cp:lastModifiedBy>Wendy</cp:lastModifiedBy>
  <dcterms:modified xsi:type="dcterms:W3CDTF">2007-12-04T03:15:13Z</dcterms:modified>
  <cp:revision>1</cp:revision>
  <dc:subject/>
  <dc:title>Slide 1</dc:title>
</cp:coreProperties>
</file>