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2029-3B15-40B1-A038-3B439293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03F0-4415-4E3D-A1BA-B6CE4FF1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E3D9-A774-43B4-9233-C16376C2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71ED-535A-4BC2-9F48-95437C9C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E040-5E2E-4F3C-B054-09653FE8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0B42-9E2A-4A9A-9805-488184C6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F776-75E3-40C9-B0FB-176EE84F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EA75-B009-4240-A0BA-E51A88AD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E7CE-70B1-43DD-AFBF-7DCE7F54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5604-CC73-4452-B9D8-46FC88C4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8E10-AB18-43E5-ACB4-5B113735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C12-9FB2-4CA4-8C3B-899FE8A6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200C-7FAF-4056-9AEB-28E775138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4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5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6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7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18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3:15:02Z</dcterms:created>
  <dc:creator>Wendy</dc:creator>
  <dc:description/>
  <dc:language>en-US</dc:language>
  <cp:lastModifiedBy>Wendy</cp:lastModifiedBy>
  <dcterms:modified xsi:type="dcterms:W3CDTF">2007-12-04T03:15:13Z</dcterms:modified>
  <cp:revision>1</cp:revision>
  <dc:subject/>
  <dc:title>Slide 1</dc:title>
</cp:coreProperties>
</file>