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0DE-EFC9-4D77-A373-74772143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EBB-AE9D-432E-8515-2B8AF75A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717-543C-4FB3-9EE9-8655A219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430-8D49-4723-9A90-746F19A0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00F-45DB-4859-9984-0C643C9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338-9D77-4538-80E0-1BE96514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43B-011E-4DFB-969B-59BF571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E68-CA45-44E0-968F-D28EB52C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5A3-DC12-4848-85CA-A1F64815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E66-57BE-452A-8716-57D8F67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D24-A4E2-40A1-B76C-6BB9303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BBD-2BEE-4598-850A-2064A98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C07-A88A-4423-ADD0-0061A54E3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15:02Z</dcterms:created>
  <dc:creator>Wendy</dc:creator>
  <dc:description/>
  <dc:language>en-US</dc:language>
  <cp:lastModifiedBy>Wendy</cp:lastModifiedBy>
  <dcterms:modified xsi:type="dcterms:W3CDTF">2007-12-04T03:15:13Z</dcterms:modified>
  <cp:revision>1</cp:revision>
  <dc:subject/>
  <dc:title>Slide 1</dc:title>
</cp:coreProperties>
</file>