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A9E-2058-484B-AE6F-2DE3BD3E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4DD-AB70-4B36-A127-9FDDD614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2DC-0ED2-48CB-BF64-6DA6B8A3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10D-F7D4-4A58-BB3B-8F81AED5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1D8-4B7C-48B0-9418-29C85337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F31-A091-4D83-A9DF-3C053C7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CF0-078C-4CCC-837F-BAD329B4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1D6-31C6-4228-81BD-C7A46330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1CF-64F6-414C-BC7E-588D567A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BBC-2DE3-4EA9-9909-D9E17B79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9F1-E4EB-4749-B1A4-7D4BD32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52D-9DEA-4FFC-96EE-962199BA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30F8-4B41-4C1D-9557-D5F2CD669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15:02Z</dcterms:created>
  <dc:creator>Wendy</dc:creator>
  <dc:description/>
  <dc:language>en-US</dc:language>
  <cp:lastModifiedBy>Wendy</cp:lastModifiedBy>
  <dcterms:modified xsi:type="dcterms:W3CDTF">2007-12-04T03:15:13Z</dcterms:modified>
  <cp:revision>1</cp:revision>
  <dc:subject/>
  <dc:title>Slide 1</dc:title>
</cp:coreProperties>
</file>