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8AF-D80D-40AA-9220-76E3E448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53C-D093-4CF7-9BF9-6F5323AA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C44-8FE8-40B2-9A3B-E5D8F746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8BC-94AB-4D8E-BB38-BD4D4548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E3B-BFA7-4F22-8FCF-02F87F0A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663-04C2-45E7-8801-A3183627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68C-D0E5-430E-808D-362C38AD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1AE-6258-4F56-87A6-F7247302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156-4E17-4DFE-913B-8368A34C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E7E-068F-44C3-82EC-D66D3679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A0C-FFC0-4C83-B803-7F7CF99D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C90-7F9F-4669-8E83-88B4A810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7B00-2216-4E90-B460-2D3C33A4C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4241880"/>
            <a:ext cx="598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04840" y="901800"/>
            <a:ext cx="92836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ndidates this year for class president are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harp. Each one answered the debate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ly and intellig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defini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witted and intelli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With an edge o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Critical and un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rritable and ang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360" y="177840"/>
            <a:ext cx="9486720" cy="10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bo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gge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evoke str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 or to create a strong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i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wo or more objec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ttention to their similarities. "Like"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A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ification - is a figure of speech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animate object or abstract idea h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ts and qua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ch as emotions, desi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ations, physical gestures and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iteration -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et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leading vow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consonant sound in a phrase. "Peter Pi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ed a Peck of Pickled Peppe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1400">
            <a:off x="800280" y="-10998360"/>
            <a:ext cx="999468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 her down from Mount Olympus to be the world’s first woman.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d her husband, Epimetheus, the weather was always sun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and 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nothing to strive for here, nothing to wonder about, nothing to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atch 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e only thing Pandora could pond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507960"/>
            <a:ext cx="104392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down from Mount Olympus to be the world’s first woman. She loved 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band, Epimetheus, the weather was always sunny, and pea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to strive for here, nothing to wonder about, nothing to do but wa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c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g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thing Pandora could po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63640" y="1015920"/>
            <a:ext cx="1090944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    Epimetheus was perfectly content to obey Zeus. Zeus had 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into a wonderful world, and had sent him a wonderful wife.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enough for Epimetheus, but it wasn’t enough for Pandor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    She glanced over at her husband to see if he was deep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pping. When he rumbled with a snore that could have rock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Olympus, she was satisfied that he slept soundl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8]     Pandora crept away to the side of their house where the jar s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efully, she grasped the lid and used all her strength to pry it open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9]     The first thing she noticed was a smell that was nothing lik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 scent of flowers carried along the warm breeze. Suddenly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smelled like a million rotten things, all of them left out in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ong. When she opened her mouth to inhale, she could t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terrib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12880" y="444600"/>
            <a:ext cx="11010960" cy="89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0]     Before she could make sense of what was happening, she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acted by horrible sounds, the clanging of weapons and wail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air, all sounds that had never been heard on Earth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1]     She saw images escaping from the jar, images of fear, pa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er, and sorrow. Pandora tried to run and catch them, to put back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rible things and seal them away forever, but it was too l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andora realized that she had released all this evil in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, she sat down defeat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2]     One more thing escaped from the jar into the once-perf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. It sang faintly, bounced gently, and even had a faintly pleas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ma. It wasn’t perfect, but it was by far the most beautiful th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out of the jar. It was hop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3]     “Life,” Pandora thought with a mixture of expect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, “may have just gotten much more interes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agraph 7,  “a snore that could have rocked Mount Olympus”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.all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1054080"/>
            <a:ext cx="9575640" cy="75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du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“Are you ever going to finish that stupid thing, or what?”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from the school bully, Biff, still rang in Charlie’s ea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Charlie tried to ignore the criticism. He dipped his brush int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 of black paint and went to work. Because of his outstanding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rt class, Charlie’s teacher, Mrs. Hill, had selected him to pa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al on a back wall of the school gymnasium. Charlie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ing over it, off and on, for more than a week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Charlie’s classmates took delight in teasing him about it. May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alous. Maybe they were upset because part of the gy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be closed off until he finished. Still, Charlie hoped th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ould be worth the struggle. He took the brush in his 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licked his wrist back and fort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It was a Friday when Charlie’s mural was complete. Mrs. H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ught the whole class to the gymnasium for the grand unvei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snickered and cracked jokes on their way to the gy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ie tried to look self-assured; but inside, he fretted more tha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92240" y="888840"/>
            <a:ext cx="10261440" cy="76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Mrs. Hill swung open the door, bringing students face to fac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ral. The class went silent. Before them stretched a pitch-black n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y. Inside the expanse was a gorgeous collection of luminous st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rating the wall like twirling pinwheels, beaming brightly like maje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. The colors soared and sailed in every direction, spanning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o end. Above them, a crescent moon gazed on the sce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     “It’s beautiful!” squeaked Emily Harrison, Charlie’s crus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     The class erupted into applause and congratulations. Every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ised Charlie for his spectacular work, as some moved in for a clo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. Even Biff couldn’t criticize. “I guess you have some talent after a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h?” he smirk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     Charlie just smiled. He had been confident all a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agraph 5, “beaming brightly like majestic fireworks” is an exampl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92240" y="787320"/>
            <a:ext cx="9512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sherman began to fling out his nets when the bar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al caused him to turn his head. There, paddling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ne and cresting the waves, was a luminous silver seal;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ew it had to be the one! It submerged beneath the water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, only to reemerge farther away. Her dark eye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to him. They were imploring, “This way!” So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his boat in pursuit, abandoning all though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aragraph, “Her dark eyes were calling to him” is an ex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7320" y="939960"/>
            <a:ext cx="941076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Life is a roller coaster ride. Its ups and downs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you on your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ntences, why is life compared to a roller co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at life is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o show that life is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o suggest riding a roller co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to show that life is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00Z</dcterms:created>
  <dc:creator>schottw</dc:creator>
  <dc:description/>
  <dc:language>en-US</dc:language>
  <cp:lastModifiedBy>schottw</cp:lastModifiedBy>
  <dcterms:modified xsi:type="dcterms:W3CDTF">2008-03-18T20:22:14Z</dcterms:modified>
  <cp:revision>1</cp:revision>
  <dc:subject/>
  <dc:title>Slide 1</dc:title>
</cp:coreProperties>
</file>