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3544-88E7-411D-AEFC-3DF9A1E4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082F-D13E-4DEF-9598-8228F9D2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3917-6279-46D1-94EA-D0D4D75A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3CBB-1424-4D1C-9E6E-6CDA0F9D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FD19-F00C-4D31-B5A5-F0A91D5E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37C4-349F-4CD8-B69C-51B4F630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B662-CA34-4008-8001-B3DE1275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6DEA-9DBE-4C2F-BD79-367324CC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B03-F93B-41A6-81CA-7AE94B4B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8834-DE04-4EB8-9E10-250451E8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99F3-BCF2-4AB6-8FBE-07A3DC4F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29DA-579D-4868-93CB-5E09BA9F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F93B-FDEE-4E60-9418-C25F662C9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9880" y="4241880"/>
            <a:ext cx="5981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ativ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04840" y="901800"/>
            <a:ext cx="92836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andidates this year for class president are 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y sharp. Each one answered the debate ques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ickly and intellig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BEST definiti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har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ck witted and intelli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With an edge o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Critical and unsympa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Irritable and ang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5360" y="177840"/>
            <a:ext cx="9486720" cy="10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erbole 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gger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to evoke stro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lings or to create a strong i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e 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aris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wo or more object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 attention to their similarities. "Like"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A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ification - is a figure of speech th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 inanimate object or abstract idea hum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its and qualit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uch as emotions, desir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ations, physical gestures and spee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iteration - i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pet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 leading vow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consonant sound in a phrase. "Peter Pip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ked a Peck of Pickled Peppe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rot="11400">
            <a:off x="800280" y="-10998360"/>
            <a:ext cx="9994680" cy="76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Pandora’s J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    The only woman on Earth was bor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     There was no denying, Pandora’s life had been good since Ze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 her down from Mount Olympus to be the world’s first woman. S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ved her husband, Epimetheus, the weather was always sunny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ce and order prevail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     Nothing ever happened and maybe that was the trouble. T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nothing to strive for here, nothing to wonder about, nothing to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watch Epimetheus nod off into a sunlit nap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     Well, she did wonder about one thing, and that was the seal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y jar that sat outside the house. It was just a jar, and it wouldn’t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ed Pandora much except for the words Zeus had said when 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ve it to her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     “Never, ever open this jar,” Zeus told her, making the insid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r the only thing Pandora could ponder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960" y="507960"/>
            <a:ext cx="1043928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Pandora’s J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    The only woman on Earth was bor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     There was no denying, Pandora’s life had been good since Zeus s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 down from Mount Olympus to be the world’s first woman. She loved 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sband, Epimetheus, the weather was always sunny, and peac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prevail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     Nothing ever happened and maybe that was the trouble. There w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hing to strive for here, nothing to wonder about, nothing to do but wat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imetheus nod off into a sunlit nap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     Well, she did wonder about one thing, and that was the sealed cl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r that sat outside the house. It was just a jar, and it wouldn’t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ed Pandora much except for the words Zeus had said when he g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to her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     “Never, ever open this jar,” Zeus told her, making the inside of the j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nly thing Pandora could pond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63640" y="1015920"/>
            <a:ext cx="10909440" cy="69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6]     Epimetheus was perfectly content to obey Zeus. Zeus had p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m into a wonderful world, and had sent him a wonderful wife.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enough for Epimetheus, but it wasn’t enough for Pandora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7]     She glanced over at her husband to see if he was deep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pping. When he rumbled with a snore that could have rock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nt Olympus, she was satisfied that he slept soundly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8]     Pandora crept away to the side of their house where the jar s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eefully, she grasped the lid and used all her strength to pry it open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9]     The first thing she noticed was a smell that was nothing lik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 scent of flowers carried along the warm breeze. Suddenly,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smelled like a million rotten things, all of them left out in the s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long. When she opened her mouth to inhale, she could ta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 terrib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12880" y="444600"/>
            <a:ext cx="11010960" cy="89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0]     Before she could make sense of what was happening, she w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acted by horrible sounds, the clanging of weapons and wail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air, all sounds that had never been heard on Earth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1]     She saw images escaping from the jar, images of fear, pai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er, and sorrow. Pandora tried to run and catch them, to put back 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rible things and seal them away forever, but it was too l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Pandora realized that she had released all this evil into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, she sat down defeate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2]     One more thing escaped from the jar into the once-perf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. It sang faintly, bounced gently, and even had a faintly pleas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oma. It wasn’t perfect, but it was by far the most beautiful thing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out of the jar. It was hop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3]     “Life,” Pandora thought with a mixture of expectation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rn, “may have just gotten much more interestin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aragraph 7,  “a snore that could have rocked Mount Olympus”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sim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person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 .all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19320" y="1054080"/>
            <a:ext cx="9575640" cy="75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dus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    “Are you ever going to finish that stupid thing, or what?”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s from the school bully, Biff, still rang in Charlie’s ear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     Charlie tried to ignore the criticism. He dipped his brush into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b of black paint and went to work. Because of his outstanding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rt class, Charlie’s teacher, Mrs. Hill, had selected him to pain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ral on a back wall of the school gymnasium. Charlie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ing over it, off and on, for more than a week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     Charlie’s classmates took delight in teasing him about it. May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ere jealous. Maybe they were upset because part of the gy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to be closed off until he finished. Still, Charlie hoped the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would be worth the struggle. He took the brush in his h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licked his wrist back and forth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     It was a Friday when Charlie’s mural was complete. Mrs. H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ught the whole class to the gymnasium for the grand unveil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snickered and cracked jokes on their way to the gy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lie tried to look self-assured; but inside, he fretted more than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92240" y="888840"/>
            <a:ext cx="10261440" cy="76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     Mrs. Hill swung open the door, bringing students face to face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ural. The class went silent. Before them stretched a pitch-black n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y. Inside the expanse was a gorgeous collection of luminous sta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rating the wall like twirling pinwheels, beaming brightly like majes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works. The colors soared and sailed in every direction, spanning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to end. Above them, a crescent moon gazed on the scen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6]     “It’s beautiful!” squeaked Emily Harrison, Charlie’s crush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7]     The class erupted into applause and congratulations. Every stu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ised Charlie for his spectacular work, as some moved in for a clo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. Even Biff couldn’t criticize. “I guess you have some talent after a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h?” he smirk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8]     Charlie just smiled. He had been confident all al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aragraph 5, “beaming brightly like majestic fireworks” is an exampl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si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perso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all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92240" y="787320"/>
            <a:ext cx="951228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sherman began to fling out his nets when the bark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eal caused him to turn his head. There, paddling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ne and cresting the waves, was a luminous silver seal; 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ew it had to be the one! It submerged beneath the water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face, only to reemerge farther away. Her dark eyes w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ing to him. They were imploring, “This way!” So 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ed his boat in pursuit, abandoning all thought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s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aragraph, “Her dark eyes were calling to him” is an exam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hyperb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si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perso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all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87320" y="939960"/>
            <a:ext cx="9410760" cy="39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 Life is a roller coaster ride. Its ups and downs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p you on your f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entences, why is life compared to a roller coa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how that life is chan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to show that life is b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to suggest riding a roller co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to show that life is s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2:00Z</dcterms:created>
  <dc:creator>schottw</dc:creator>
  <dc:description/>
  <dc:language>en-US</dc:language>
  <cp:lastModifiedBy>schottw</cp:lastModifiedBy>
  <dcterms:modified xsi:type="dcterms:W3CDTF">2008-03-18T20:22:14Z</dcterms:modified>
  <cp:revision>1</cp:revision>
  <dc:subject/>
  <dc:title>Slide 1</dc:title>
</cp:coreProperties>
</file>