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87D-2F87-44F5-B2D8-BBB3D7EC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6CE-3932-4FB8-9AAA-773D6D33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553-E68B-46C7-AA0D-ABE13A53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3BE-5A7C-4906-8A5D-48CE80A6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0EB-DF22-4CD0-A9D6-4B03211D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109-4E10-49C9-B01A-F89C65C9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BEF-3993-499E-B559-3A95C973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2F0-0371-4381-91B6-7B8F215C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455-8698-4668-ACDC-DEF898B7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E4E0-59EF-4478-A797-A82A9F35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3F3-0C01-454D-8F96-F9DE4A67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31D-E180-46BF-89EE-2E9E8F1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1EA2-1489-4BB9-9AA3-A588CE91C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4241880"/>
            <a:ext cx="598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04840" y="901800"/>
            <a:ext cx="92836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andidates this year for class president are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harp. Each one answered the debate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ly and intellig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defini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ha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witted and intelli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With an edge o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Critical and un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Irritable and ang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360" y="177840"/>
            <a:ext cx="9486720" cy="10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bo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gge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evoke stro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s or to create a strong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e 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aris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wo or more objec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ttention to their similarities. "Like"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A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ification - is a figure of speech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animate object or abstract idea hu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ts and qual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ch as emotions, desir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ations, physical gestures and spe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iteration - i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et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leading vow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consonant sound in a phrase. "Peter Pi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ed a Peck of Pickled Peppe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1400">
            <a:off x="800280" y="-10998360"/>
            <a:ext cx="9994680" cy="76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 her down from Mount Olympus to be the world’s first woman.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ed her husband, Epimetheus, the weather was always sun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 and 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nothing to strive for here, nothing to wonder about, nothing to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atch 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e only thing Pandora could pond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507960"/>
            <a:ext cx="104392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Pandora’s J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The only woman on Earth was bor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There was no denying, Pandora’s life had been good since Zeus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 down from Mount Olympus to be the world’s first woman. She loved 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sband, Epimetheus, the weather was always sunny, and pea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prevail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Nothing ever happened and maybe that was the trouble. There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to strive for here, nothing to wonder about, nothing to do but wa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metheus nod off into a sunlit nap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Well, she did wonder about one thing, and that was the sealed c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 that sat outside the house. It was just a jar, and it wouldn’t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Pandora much except for the words Zeus had said when he g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o h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“Never, ever open this jar,” Zeus told her, making the inside of the j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ly thing Pandora could po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63640" y="1015920"/>
            <a:ext cx="1090944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6]     Epimetheus was perfectly content to obey Zeus. Zeus had 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m into a wonderful world, and had sent him a wonderful wife.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enough for Epimetheus, but it wasn’t enough for Pandor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7]     She glanced over at her husband to see if he was deep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pping. When he rumbled with a snore that could have rock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Olympus, she was satisfied that he slept soundl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8]     Pandora crept away to the side of their house where the jar s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efully, she grasped the lid and used all her strength to pry it open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9]     The first thing she noticed was a smell that was nothing lik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 scent of flowers carried along the warm breeze. Suddenly,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smelled like a million rotten things, all of them left out in the s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ong. When she opened her mouth to inhale, she could t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terrib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12880" y="444600"/>
            <a:ext cx="11010960" cy="89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0]     Before she could make sense of what was happening, she w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acted by horrible sounds, the clanging of weapons and wail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air, all sounds that had never been heard on Earth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1]     She saw images escaping from the jar, images of fear, pa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er, and sorrow. Pandora tried to run and catch them, to put back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rible things and seal them away forever, but it was too l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andora realized that she had released all this evil in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, she sat down defeat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2]     One more thing escaped from the jar into the once-perf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. It sang faintly, bounced gently, and even had a faintly pleas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ma. It wasn’t perfect, but it was by far the most beautiful thing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out of the jar. It was hop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3]     “Life,” Pandora thought with a mixture of expect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, “may have just gotten much more interest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agraph 7,  “a snore that could have rocked Mount Olympus”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.all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1054080"/>
            <a:ext cx="9575640" cy="75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du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    “Are you ever going to finish that stupid thing, or what?”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from the school bully, Biff, still rang in Charlie’s ear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    Charlie tried to ignore the criticism. He dipped his brush int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b of black paint and went to work. Because of his outstanding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rt class, Charlie’s teacher, Mrs. Hill, had selected him to pain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ral on a back wall of the school gymnasium. Charlie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ing over it, off and on, for more than a week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     Charlie’s classmates took delight in teasing him about it. May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jealous. Maybe they were upset because part of the gy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be closed off until he finished. Still, Charlie hoped th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would be worth the struggle. He took the brush in his 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licked his wrist back and fort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     It was a Friday when Charlie’s mural was complete. Mrs. H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ught the whole class to the gymnasium for the grand unvei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snickered and cracked jokes on their way to the gy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lie tried to look self-assured; but inside, he fretted more tha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92240" y="888840"/>
            <a:ext cx="10261440" cy="76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     Mrs. Hill swung open the door, bringing students face to fac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ral. The class went silent. Before them stretched a pitch-black n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y. Inside the expanse was a gorgeous collection of luminous st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rating the wall like twirling pinwheels, beaming brightly like maje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orks. The colors soared and sailed in every direction, spanning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o end. Above them, a crescent moon gazed on the sce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     “It’s beautiful!” squeaked Emily Harrison, Charlie’s crush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     The class erupted into applause and congratulations. Every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ised Charlie for his spectacular work, as some moved in for a clo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. Even Biff couldn’t criticize. “I guess you have some talent after a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h?” he smirked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     Charlie just smiled. He had been confident all a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aragraph 5, “beaming brightly like majestic fireworks” is an exampl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92240" y="787320"/>
            <a:ext cx="951228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sherman began to fling out his nets when the bar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al caused him to turn his head. There, paddling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ne and cresting the waves, was a luminous silver seal;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ew it had to be the one! It submerged beneath the water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, only to reemerge farther away. Her dark eyes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to him. They were imploring, “This way!” So 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his boat in pursuit, abandoning all though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aragraph, “Her dark eyes were calling to him” is an ex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hyperb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si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pers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allit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87320" y="939960"/>
            <a:ext cx="941076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Life is a roller coaster ride. Its ups and downs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you on your f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ntences, why is life compared to a roller co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how that life is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o show that life is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o suggest riding a roller co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to show that life is 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2:00Z</dcterms:created>
  <dc:creator>schottw</dc:creator>
  <dc:description/>
  <dc:language>en-US</dc:language>
  <cp:lastModifiedBy>schottw</cp:lastModifiedBy>
  <dcterms:modified xsi:type="dcterms:W3CDTF">2008-03-18T20:22:14Z</dcterms:modified>
  <cp:revision>1</cp:revision>
  <dc:subject/>
  <dc:title>Slide 1</dc:title>
</cp:coreProperties>
</file>