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4FA-4D86-4ECE-B0BF-8E2C47B5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D75-9E5A-4B3E-A735-70750571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155-05DF-4915-B108-8275A477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A10A-8B6B-474E-A6F1-D5E1E60C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86D-D5C2-4D01-8BB1-C479447E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5CB-AC33-40AB-80EA-B6D4BDCA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9F3-B476-47BB-8F21-2A47831C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6F4-EC84-4E71-BC3C-3E591B41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AF6-042C-40A7-9C87-C50B8952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D0C-E846-4B9F-B8B5-BA679142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F96-70A7-4A84-B2DC-DBD06173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1A9-FD19-4844-A51D-E8301F83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D706-C1E5-4EAB-AEE7-20271AA4F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1:36Z</dcterms:created>
  <dc:creator>schottw</dc:creator>
  <dc:description/>
  <dc:language>en-US</dc:language>
  <cp:lastModifiedBy>schottw</cp:lastModifiedBy>
  <dcterms:modified xsi:type="dcterms:W3CDTF">2008-03-18T20:21:39Z</dcterms:modified>
  <cp:revision>1</cp:revision>
  <dc:subject/>
  <dc:title>Slide 1</dc:title>
</cp:coreProperties>
</file>