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F236-987D-4AC7-8E5A-4CA15153B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3358-EC0D-4800-AA99-4D2DF304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A832-C789-4A74-924F-5483B373A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2F16-28F6-464D-8B77-0E02385EC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C12E-5882-4D31-B535-DE709205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DCBB-3334-4765-8177-DBF2AA72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5E42-468B-4E3F-814A-8771E60B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8D42-27BD-4623-82A2-9B1C0D3B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384C-CFD8-41B6-9A28-57FC95BF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6262-6049-4EC8-8A47-921BA758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3D31-F5DD-4311-838B-F125B241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218E-89BD-4181-8257-6B57DF75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570F-01A5-4E34-8A93-F7CAD6F45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0:21:36Z</dcterms:created>
  <dc:creator>schottw</dc:creator>
  <dc:description/>
  <dc:language>en-US</dc:language>
  <cp:lastModifiedBy>schottw</cp:lastModifiedBy>
  <dcterms:modified xsi:type="dcterms:W3CDTF">2008-03-18T20:21:39Z</dcterms:modified>
  <cp:revision>1</cp:revision>
  <dc:subject/>
  <dc:title>Slide 1</dc:title>
</cp:coreProperties>
</file>