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62E-AB01-4E15-8B81-4B3BA05E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D99-42F4-478B-B322-7DFF17D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E8B-3067-4BC7-A756-D2C19641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365-CB8E-4BA2-8449-F94F8CB5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BE1-9D43-4490-BBB6-70E281FA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122-19AC-496C-BBCD-28B4DD7F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FCE-D39E-431C-B4E1-C77B1A05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3FF-D5D7-4AFE-9C96-2408382A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8AE-060D-45DE-98FA-D2929DD2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DE6-CADD-44D1-813E-81E95C7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14B-A6CF-4808-89B5-2D99083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6BA-45EF-4766-BDCC-9E61E0A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728D-7972-4182-B70D-82D4B64F1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36Z</dcterms:created>
  <dc:creator>schottw</dc:creator>
  <dc:description/>
  <dc:language>en-US</dc:language>
  <cp:lastModifiedBy>schottw</cp:lastModifiedBy>
  <dcterms:modified xsi:type="dcterms:W3CDTF">2008-03-18T20:21:39Z</dcterms:modified>
  <cp:revision>1</cp:revision>
  <dc:subject/>
  <dc:title>Slide 1</dc:title>
</cp:coreProperties>
</file>