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E00-970C-481E-A32A-DF2BC060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BD1-5704-4609-B9E2-ED8618D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C4E-D6E9-4F82-895E-C0C3B791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4EA-BE24-4D29-827D-49349B22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490-CDE1-4A32-AE35-2EADDF74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171-46FE-4741-85BA-6801AADB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952-6006-40E7-9938-FB6D865C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C7F-6F02-49EE-B7FE-836DC154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4A9-0A81-4344-80C8-9FD579A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10C-0B51-436B-944F-E5CFBEA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339-B2CE-4573-A85C-AB03578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909-630A-4B28-B9F6-2FF69BD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EC0A-B522-4FAE-9046-844651879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1:36Z</dcterms:created>
  <dc:creator>schottw</dc:creator>
  <dc:description/>
  <dc:language>en-US</dc:language>
  <cp:lastModifiedBy>schottw</cp:lastModifiedBy>
  <dcterms:modified xsi:type="dcterms:W3CDTF">2008-03-18T20:21:39Z</dcterms:modified>
  <cp:revision>1</cp:revision>
  <dc:subject/>
  <dc:title>Slide 1</dc:title>
</cp:coreProperties>
</file>