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CBB-ECE9-4783-9F68-3EA803B3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EA2-1A56-4460-B5E9-FEE4E2CC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76B-47A3-49B5-8DAB-E90AED9D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7FD-14B3-409D-BABA-51117CDD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4AA-C8A4-4C5D-A019-0C9DB068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4D2-29C7-4893-ABCA-0305E66E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616-14BF-43F3-A97B-1A1C69D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ED9-A637-4FC4-B58D-C129AE8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90D-98DF-42BA-94AF-5AEF817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85C-75CF-45FE-9524-6B1493C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D44-77D3-4F0B-95FD-4F2B61C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672-AE26-41C2-BEF6-7A6DD30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05D4-00C1-45FC-97F2-C8418EC07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14Z</dcterms:created>
  <dc:creator>schottw</dc:creator>
  <dc:description/>
  <dc:language>en-US</dc:language>
  <cp:lastModifiedBy>schottw</cp:lastModifiedBy>
  <dcterms:modified xsi:type="dcterms:W3CDTF">2008-03-18T20:21:17Z</dcterms:modified>
  <cp:revision>1</cp:revision>
  <dc:subject/>
  <dc:title>Slide 1</dc:title>
</cp:coreProperties>
</file>