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BD8-084F-4BF4-A035-495C8948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FF5-F3DE-4E6B-9082-9CDBEE78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1FA-33E5-4427-A0BA-5A5ADC8C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767-4546-4DA3-8C34-15EF07C9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DA1-D8CF-4E6D-8567-15940C60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0FD-9DBD-408E-8445-E7408091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885-6E9F-4A35-83E2-97EEC44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ED0-FF0C-4302-863F-74D25673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FA0-F7AA-4808-BBE4-60914F62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9DF-B490-47AA-A10D-57BD859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B3B-9F66-499D-B536-354DE79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D1A-710C-4480-888D-6AF55A4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B518-9434-4A97-8CAE-FA8CB4B6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14Z</dcterms:created>
  <dc:creator>schottw</dc:creator>
  <dc:description/>
  <dc:language>en-US</dc:language>
  <cp:lastModifiedBy>schottw</cp:lastModifiedBy>
  <dcterms:modified xsi:type="dcterms:W3CDTF">2008-03-18T20:21:17Z</dcterms:modified>
  <cp:revision>1</cp:revision>
  <dc:subject/>
  <dc:title>Slide 1</dc:title>
</cp:coreProperties>
</file>