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A22-844C-43E4-8797-2B8A5700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7081-286E-44AF-BBD7-E7540DD7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3C9-07A2-4412-B5DA-105B2456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F33-4F4D-4DED-97F1-199D6B5D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9C2A-3F58-4EAA-B7BE-DDFD4050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C002-C9CF-4435-BF37-9B446471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ED1A-DA0F-4C8F-BC66-2FE267F0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F464-6CC4-42A3-8497-BB4BDCC5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A796-4801-4999-A27D-F4183D29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D791-2E0E-406B-BE2B-D8069EAB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72D0-6A61-46C5-9D53-9867FE53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CC6-B5DE-41DD-A510-3F5363D5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E2B4-144D-4AD9-A7F3-335D40DD8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1:14Z</dcterms:created>
  <dc:creator>schottw</dc:creator>
  <dc:description/>
  <dc:language>en-US</dc:language>
  <cp:lastModifiedBy>schottw</cp:lastModifiedBy>
  <dcterms:modified xsi:type="dcterms:W3CDTF">2008-03-18T20:21:17Z</dcterms:modified>
  <cp:revision>1</cp:revision>
  <dc:subject/>
  <dc:title>Slide 1</dc:title>
</cp:coreProperties>
</file>