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1D18-66D6-46C8-AB0E-352C1160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563E-E775-4EAF-9CD2-08987F8F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8BD5-3F07-412D-9DF7-E4F4DBDB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8BC8-6598-41E8-B42E-57579CC6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9F0D-D0FB-4221-A436-4A6AC3BB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1481-969C-4063-B0C7-1745F69C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6047-3278-4370-81E7-B2C2BEF5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0368-BEF2-4A4D-9BB5-598B3DE0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8C45-B101-462F-A17D-B94F946B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AAFD-CA84-4F54-829C-E103C582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829-C646-4D03-AEB6-C4DA3E45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BF08-859E-4828-B092-1FFFF882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6A51-C485-4E98-9784-853073CD1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1:14Z</dcterms:created>
  <dc:creator>schottw</dc:creator>
  <dc:description/>
  <dc:language>en-US</dc:language>
  <cp:lastModifiedBy>schottw</cp:lastModifiedBy>
  <dcterms:modified xsi:type="dcterms:W3CDTF">2008-03-18T20:21:17Z</dcterms:modified>
  <cp:revision>1</cp:revision>
  <dc:subject/>
  <dc:title>Slide 1</dc:title>
</cp:coreProperties>
</file>