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155-DE47-41BA-8706-624D966A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C19-776E-4E53-B210-497F5B2C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73A-9100-42FF-8D1A-E477241F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2B8-BB3F-44B3-AC4A-DF04A936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CB8-EB63-47D9-BD50-4305D415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407-6F2B-4B4F-8651-2C9DC214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249-6C82-4DF2-8F69-025CEA0C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3AA-2099-4A90-8BF1-AF14D61E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CBB-0291-4481-AF38-625D4F30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EEE-A1E7-452E-9D11-4168FF2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F59-A867-4BDD-9BC5-925B7FF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3D6-7BBA-4B48-9362-0BB0C5B6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639D-7599-4B81-920A-20CB54AB1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14Z</dcterms:created>
  <dc:creator>schottw</dc:creator>
  <dc:description/>
  <dc:language>en-US</dc:language>
  <cp:lastModifiedBy>schottw</cp:lastModifiedBy>
  <dcterms:modified xsi:type="dcterms:W3CDTF">2008-03-18T20:21:17Z</dcterms:modified>
  <cp:revision>1</cp:revision>
  <dc:subject/>
  <dc:title>Slide 1</dc:title>
</cp:coreProperties>
</file>