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BF9-D969-4B8A-BBC7-672C1281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80D-9E60-421B-AC73-CFE30B17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7F2-D583-4E14-AADE-13F84383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2B8-A2C4-4918-BD7A-381A48F2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8A8-23B7-42D8-938E-5342197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7BA-20C4-4000-86D7-A1FAB835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EFA-DD42-4A95-81B7-5D1786B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AD1-4A60-4D6A-953C-E774BB0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A39-6BC7-438B-AFEA-0CE3979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637-27CB-4385-96C8-4A7A3CC3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F0C-32B9-4A95-AF77-41C48A1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980-29CD-4D80-9B1D-A22C447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904-2912-4412-B5C2-0A7AA00F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14Z</dcterms:created>
  <dc:creator>schottw</dc:creator>
  <dc:description/>
  <dc:language>en-US</dc:language>
  <cp:lastModifiedBy>schottw</cp:lastModifiedBy>
  <dcterms:modified xsi:type="dcterms:W3CDTF">2008-03-18T20:21:17Z</dcterms:modified>
  <cp:revision>1</cp:revision>
  <dc:subject/>
  <dc:title>Slide 1</dc:title>
</cp:coreProperties>
</file>