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7B689-6559-4BDC-811B-94425EC5D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13E9C-4BA3-4860-9FBA-FCAA36D7B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0DF04-6A40-4BE9-A5B9-930B1B60F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65834-0455-49B4-9223-6431C9299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5BF9F-9FC5-4D0D-A832-692945708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82539-C0E5-4D79-B765-13698214D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DDB47-EC3A-4126-869A-D46C3867E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1D1D2-6E7C-4E01-90C9-ECF3A4EF8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060CE-69E9-4ACF-AE08-ED0D70CCC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63BC2-8B8D-44E6-9988-FECD2BAE9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95245-7F40-403E-82F7-2C0A9BDF8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BB4DD-A394-4675-A457-BF12C110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AD94D-C9D2-4819-9903-65C1004F8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C8C0A-D8CC-4DEE-88B2-020595931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84176-801E-433F-8D92-1B39D7CBF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EA301-ED4E-4227-B428-502725570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F414D-874D-41AB-9260-B470E6883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FD080-EBB5-47CD-9DB2-14DDDD37F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ED2A4-F8E1-4BC7-A38D-2F9CE6C87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1A2FD-6D79-41D3-8F5E-46FBA320C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1205A-9611-444D-80ED-1AC7F5504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6D98-3F52-4809-AA3B-C21D9C6DE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6426-1029-455B-95EB-C99006A6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ADD2-4E25-48E4-987B-126A89B76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A692-E9B4-4105-8348-F4DCAE35445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A8D9-3650-4A59-ACC0-6FAD1800DB1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hecopyrightsite.org/fairuse.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January_1" TargetMode="External"/><Relationship Id="rId2" Type="http://schemas.openxmlformats.org/officeDocument/2006/relationships/hyperlink" Target="http://en.wikipedia.org/wiki/1923"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and You</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f it doesn't have a copyright notice, I can copy it.</a:t>
            </a:r>
            <a:br>
              <a:rPr sz="3200"/>
            </a:br>
            <a:endParaRPr b="0" lang="en-US" sz="32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current law, a copyright notice isn’t required. You should assume that if it is the kind of work that can be copyrighted, it is copyrigh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 can use a copyrighted work as long as I don’t plan to make any money on it.</a:t>
            </a:r>
            <a:br>
              <a:rPr sz="3200"/>
            </a:br>
            <a:endParaRPr b="0" lang="en-US" sz="32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 law gives the owner the right to decide who uses the work. Money has nothing to do with i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f something is posted on the Internet, it’s in the public domain so I can use it. </a:t>
            </a:r>
            <a:br>
              <a:rPr sz="3200"/>
            </a:br>
            <a:endParaRPr b="0" lang="en-US" sz="32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ing things on the Internet doesn’t cause something to fall into the public domain.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work technology certainly makes it easier to violate copyright law by downloading texts or images off the Internet, but it’s still illegal unless you have permission from the copyright own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I can use a copyrighted work as long as it’s for educational purposes.</a:t>
            </a:r>
            <a:br>
              <a:rPr sz="3200"/>
            </a:br>
            <a:endParaRPr b="0" lang="en-US" sz="32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le it is true that you may be able to use copyrighted material, there are strict rules about what’s considered a “</a:t>
            </a:r>
            <a:r>
              <a:rPr b="0" lang="en-US" sz="3200" spc="-1" strike="noStrike" u="sng">
                <a:solidFill>
                  <a:srgbClr val="ffcc66"/>
                </a:solidFill>
                <a:uFillTx/>
                <a:latin typeface="Tahoma"/>
                <a:hlinkClick r:id="rId1"/>
              </a:rPr>
              <a:t>fair use</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Fair Use</a:t>
            </a:r>
            <a:br>
              <a:rPr sz="4000"/>
            </a:br>
            <a:endParaRPr b="0" lang="en-US" sz="40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copyright law contains a provision that allows limited use of copyrighted works without the permission of the owner for certain teaching and research purpos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GUIDELINES for the amount of a work you may use</a:t>
            </a:r>
            <a:br>
              <a:rPr sz="4800"/>
            </a:br>
            <a:endParaRPr b="0" lang="en-US" sz="4800" spc="-1" strike="noStrike">
              <a:solidFill>
                <a:srgbClr val="dbbd71"/>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Text</a:t>
            </a:r>
            <a:br>
              <a:rPr sz="4000"/>
            </a:br>
            <a:endParaRPr b="0" lang="en-US" sz="40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work or 1000 words, whichever is l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ems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re poem if less than 250 word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0 words or less if longer poem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more than 5 poems (or excerpts) of different poets, from an anthology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y 3 poems (or excerpts) per poet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Motion Media</a:t>
            </a:r>
            <a:br>
              <a:rPr sz="4000"/>
            </a:br>
            <a:endParaRPr b="0" lang="en-US" sz="40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work or 3 minutes, whichever is les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p cannot be altered in any wa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Illustrations</a:t>
            </a:r>
            <a:br>
              <a:rPr sz="4000"/>
            </a:b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hotograph or illustration may be used in its entirety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more than 5 images of an artist's or photographer's work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using a collection, no more than 10% or no more than 15 images, whichever is les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Music</a:t>
            </a:r>
            <a:br>
              <a:rPr sz="4000"/>
            </a:br>
            <a:endParaRPr b="0" lang="en-US" sz="40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copyrighted musical composition, but no more than 30 second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 to 10% of a body of sound recording, but no more than 30 second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alterations cannot change the basic melody or the fundamental character of the work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Copyright</a:t>
            </a:r>
            <a:br>
              <a:rPr sz="4000"/>
            </a:b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ork is copyrighted when that work has been created in some type of tangible form like writing or recording.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case of a single creator, it is now protected for the creator's life plus seventy year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Can I put my classroom material on the Web? </a:t>
            </a:r>
            <a:br>
              <a:rPr sz="4800"/>
            </a:br>
            <a:endParaRPr b="0" lang="en-US" sz="4800" spc="-1" strike="noStrike">
              <a:solidFill>
                <a:srgbClr val="dbbd71"/>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ost situations under the Copyright Act of 1976, when you create a lesson plan or syllabi and share them with your class you will not have many problem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endParaRPr b="0" lang="en-US" sz="29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the rules change if you decide to upload that same material to the World Wide Web or the Interne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you produce a web site that is not on a password protected server or Intranet, you are making all of those materials, which may include anyone else's copyrighted materials, available to an unlimited number of people who have open access to your web sit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bbd71"/>
                </a:solidFill>
                <a:latin typeface="Arial"/>
              </a:rPr>
              <a:t>Is it ok for me to put my syllabi, lesson plans, or any other classroom notes on-line?</a:t>
            </a:r>
            <a:endParaRPr b="0" lang="en-US" sz="29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means that you could possibly be reproducing copyrighted materials illegally if you are using copyrighted materials in your lesson plans or syllabu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Quiz</a:t>
            </a:r>
            <a:endParaRPr b="0" lang="en-US" sz="5400" spc="-1" strike="noStrike">
              <a:solidFill>
                <a:srgbClr val="dbbd71"/>
              </a:solidFill>
              <a:latin typeface="Arial"/>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s a reward for the first-grade classes’ victory in a reading competition, you pop gallons of popcorn and invite the students to the cafeteria to view the Don Bluth film </a:t>
            </a:r>
            <a:r>
              <a:rPr b="0" i="1" lang="en-US" sz="3200" spc="-1" strike="noStrike">
                <a:solidFill>
                  <a:srgbClr val="ffffff"/>
                </a:solidFill>
                <a:latin typeface="Tahoma"/>
              </a:rPr>
              <a:t>An American Tale</a:t>
            </a:r>
            <a:r>
              <a:rPr b="0" lang="en-US" sz="3200" spc="-1" strike="noStrike">
                <a:solidFill>
                  <a:srgbClr val="ffffff"/>
                </a:solidFill>
                <a:latin typeface="Tahoma"/>
              </a:rPr>
              <a:t>, rented from a local video stor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No, it is not permissible to rent and show a movie as a reward, in a classroom or anywhere else on campus.  It is legal to rent and show movies in a classroom when there is an instructional purpose.  If you want to show a movie for entertainment or as a reward, you need to contact the production company and pay an entertainment f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 junior-high science teacher purchases a class license to install a software program on 30 workstations.  There are 30 students, and each uses an individual station during the class period.  When a 31</a:t>
            </a:r>
            <a:r>
              <a:rPr b="0" lang="en-US" sz="3200" spc="-1" strike="noStrike" baseline="30000">
                <a:solidFill>
                  <a:srgbClr val="ffffff"/>
                </a:solidFill>
                <a:latin typeface="Tahoma"/>
              </a:rPr>
              <a:t>st</a:t>
            </a:r>
            <a:r>
              <a:rPr b="0" lang="en-US" sz="3200" spc="-1" strike="noStrike">
                <a:solidFill>
                  <a:srgbClr val="ffffff"/>
                </a:solidFill>
                <a:latin typeface="Tahoma"/>
              </a:rPr>
              <a:t> student is enrolled, the teacher loads the program on another computer for this student to use during cla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No, this is not permissible.  Although the science teacher has purchased a class license for the software program, the license limits simultaneous use to 30 workstations.  Using the program on an additional workstation violates this agree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Fifth-grade students download images from the Internet to use in multimedia projects for the classroom.  Some of the images are copyrighted, and students do not take the time to obtain permission for classroom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What Works Are Protected?</a:t>
            </a:r>
            <a:br>
              <a:rPr sz="4000"/>
            </a:b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ry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ical works, including any accompanying word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matic works, including any accompanying music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ntomimes and choreographic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ctorial, graphic, and sculptural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on pictures and other audiovisual work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 recording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chitectural works </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Yes, this is an example of fair use.  Students may download and use copyrighted images as long as the projects are not distributed outside the classroom.  The teacher could not post the projects on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A teacher purchases one copy of a workbook that supplements a classroom text, and then duplicates the exercises for student 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No, this is not permissible.  Consumable workbooks are published with the intent that they will be purchased for, and used by, one student.  By making copies of the worksheets, the teacher is impacting the copyright owner’s ability to profit from the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 high school student uses brief (less than 30 seconds each) copyrighted music clips to enhance a social science multimedia proje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s this action permissible under copyright law?</a:t>
            </a:r>
            <a:endParaRPr b="0" lang="en-US" sz="40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Yes, this is an example of fair use.  Students may use very short audio clips as part of a multimedia project.  The project can not be posted on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What Is Not Protected by Copyright?</a:t>
            </a:r>
            <a:br>
              <a:rPr sz="3600"/>
            </a:br>
            <a:endParaRPr b="0" lang="en-US" sz="36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that have not been fixed in a tangible form of express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 names, short phrases, and slogans; familiar symbols or designs; mere listings of ingredients or cont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What Is Not Protected by Copyright?</a:t>
            </a:r>
            <a:br>
              <a:rPr sz="3600"/>
            </a:br>
            <a:endParaRPr b="0" lang="en-US" sz="36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s, procedures, methods, systems, processes, concepts, principles, discoveries, or devices, as distinguished from a description, explanation, or illustration</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consisting entirely of information that is common property and containing no original authorship (for example: standard calendars, height and weight charts, tape measures and rulers, and lists or tables taken from public documents or other common sourc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U.S., any work </a:t>
            </a:r>
            <a:r>
              <a:rPr b="1" lang="en-US" sz="3200" spc="-1" strike="noStrike">
                <a:solidFill>
                  <a:srgbClr val="ffffff"/>
                </a:solidFill>
                <a:latin typeface="Tahoma"/>
              </a:rPr>
              <a:t>published before </a:t>
            </a:r>
            <a:r>
              <a:rPr b="0" lang="en-US" sz="3200" spc="-1" strike="noStrike" u="sng">
                <a:solidFill>
                  <a:srgbClr val="ffcc66"/>
                </a:solidFill>
                <a:uFillTx/>
                <a:latin typeface="Tahoma"/>
                <a:hlinkClick r:id="rId1"/>
              </a:rPr>
              <a:t>January 1</a:t>
            </a:r>
            <a:r>
              <a:rPr b="0" lang="en-US" sz="3200" spc="-1" strike="noStrike" u="sng">
                <a:solidFill>
                  <a:srgbClr val="ffffff"/>
                </a:solidFill>
                <a:uFillTx/>
                <a:latin typeface="Tahoma"/>
              </a:rPr>
              <a:t>, </a:t>
            </a:r>
            <a:r>
              <a:rPr b="0" lang="en-US" sz="3200" spc="-1" strike="noStrike" u="sng">
                <a:solidFill>
                  <a:srgbClr val="ffcc66"/>
                </a:solidFill>
                <a:uFillTx/>
                <a:latin typeface="Tahoma"/>
                <a:hlinkClick r:id="rId2"/>
              </a:rPr>
              <a:t>1923</a:t>
            </a:r>
            <a:r>
              <a:rPr b="0" lang="en-US" sz="3200" spc="-1" strike="noStrike">
                <a:solidFill>
                  <a:srgbClr val="ffffff"/>
                </a:solidFill>
                <a:latin typeface="Tahoma"/>
              </a:rPr>
              <a:t> </a:t>
            </a:r>
            <a:r>
              <a:rPr b="0" i="1" lang="en-US" sz="3200" spc="-1" strike="noStrike">
                <a:solidFill>
                  <a:srgbClr val="ffffff"/>
                </a:solidFill>
                <a:latin typeface="Tahoma"/>
              </a:rPr>
              <a:t>anywhere in the world</a:t>
            </a:r>
            <a:r>
              <a:rPr b="0" lang="en-US" sz="3200" spc="-1" strike="noStrike">
                <a:solidFill>
                  <a:srgbClr val="ffffff"/>
                </a:solidFill>
                <a:latin typeface="Tahoma"/>
              </a:rPr>
              <a:t> is in the </a:t>
            </a:r>
            <a:r>
              <a:rPr b="1" lang="en-US" sz="3200" spc="-1" strike="noStrike">
                <a:solidFill>
                  <a:srgbClr val="ffffff"/>
                </a:solidFill>
                <a:latin typeface="Tahoma"/>
              </a:rPr>
              <a:t>public domai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Public Domain</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ibl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entions of Archimedes and Thomas Edis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of Shakespeare and Mark Tw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Myths</a:t>
            </a:r>
            <a:endParaRPr b="0" lang="en-US" sz="5400" spc="-1" strike="noStrike">
              <a:solidFill>
                <a:srgbClr val="dbbd71"/>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To copyright something, I have to register with the copyright office.</a:t>
            </a:r>
            <a:br>
              <a:rPr sz="4000"/>
            </a:br>
            <a:endParaRPr b="0" lang="en-US" sz="32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ment an original work is fixed in a tangible medium of expression such as on paper or as a recording, it enjoys copyright protec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2:59:33Z</dcterms:created>
  <dc:creator>AlthofB</dc:creator>
  <dc:description/>
  <dc:language>en-US</dc:language>
  <cp:lastModifiedBy>canovar</cp:lastModifiedBy>
  <dcterms:modified xsi:type="dcterms:W3CDTF">2008-02-19T21:20:41Z</dcterms:modified>
  <cp:revision>6</cp:revision>
  <dc:subject/>
  <dc:title>Copyright and You</dc:title>
</cp:coreProperties>
</file>