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2C6-75AE-4F0F-9316-DFFC1A8E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860-EF10-4FA6-86C4-0D98C9F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133-DF25-4AC9-9FE0-D7E89EC0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4EA-7A4A-4859-89C3-B61079D2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CCB5-4A07-4E1B-B55A-A59239EE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7B5C-7740-4DF9-90FD-67BC4036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F466-75CA-496C-9BBF-B40DBF72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D8B9-EF73-4EC9-A930-9A459D1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01E3-A8E7-49CF-B934-C3D18FCB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D18A-6114-46CD-9113-7290F840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2F7B-CD01-4D64-A7E3-6885B68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9EF-DF97-4FEA-9FB9-79956E2E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A22E-57C9-4E3F-9F08-DC82BEDE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709F-B33E-4F5F-B52C-6F9A5FC0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C255-CAEB-4323-8A87-1333B9E5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AA4B-F5EB-47EC-99ED-C07F033C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BB3D-E2AE-48F8-8263-5E561DB8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EB3-F445-4C6D-B64D-CD195657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4AC-B925-491D-B0E4-577891E5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202-5F8F-4563-81E1-842C6A0C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BE4-E341-4AE4-976E-15BD4F6D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E7F-97B2-48AA-921B-F4F3EC9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35A-7482-40DF-8A30-E4711BF7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539-C6BE-4CAE-BB78-0BC0CA4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EE24-FF3A-4209-8F62-99573685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60CC-4ACF-420A-B35D-D96E82FEF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pr.org/templates/story/story.php?storyId=95965641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Journey to Learn 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200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iday October 2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ented by: Nicole Stag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cKeesport Area School Distr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tworks Police YouTube For Copyright Viola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idential campaigns have fallen victim to a common copyright problem on the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npr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038840" cy="30286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What You Need to Know About Copyrights in Your Classroom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s it ok for me to put my syllabi, lesson plans, and other classroom notes on-line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situations under the Copyright Act of 1976, when you create a lesson plan or syllabi and share them with your class you will not have many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m I allowed to show a rented movie as a reward for my class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it is not permissible to rent and show a movie as a reward, in a classroom. It is only legal to rent and show movies in a classroom where there is an instructional purp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download images from the Internet to use in projects for the classroom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 example of fair use. Students may download and use copyrighted images as long as the projects are not distributed outside the class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use brief copyrighted music clips to enhance a multimedia project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other example of fair use.  Students may use very short (30 seconds) audio clips as part of a multimedia presentation.  The project can not be posted on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??Any Questions??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Picture 6" descr="j0234687"/>
          <p:cNvPicPr/>
          <p:nvPr/>
        </p:nvPicPr>
        <p:blipFill>
          <a:blip r:embed="rId1"/>
          <a:stretch/>
        </p:blipFill>
        <p:spPr>
          <a:xfrm>
            <a:off x="2743200" y="3733920"/>
            <a:ext cx="37339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Additional Copyright Case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You be the Judge!!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8" descr="MCj01992510000[1]"/>
          <p:cNvPicPr/>
          <p:nvPr/>
        </p:nvPicPr>
        <p:blipFill>
          <a:blip r:embed="rId1"/>
          <a:stretch/>
        </p:blipFill>
        <p:spPr>
          <a:xfrm>
            <a:off x="3581280" y="4191120"/>
            <a:ext cx="22860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You Be The Ju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 Parker Jr. vs. Huey Lew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hostb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a New Dr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and David Bowie vs. Vanilla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ce Ba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MCj01992510000[1]"/>
          <p:cNvPicPr/>
          <p:nvPr/>
        </p:nvPicPr>
        <p:blipFill>
          <a:blip r:embed="rId1"/>
          <a:stretch/>
        </p:blipFill>
        <p:spPr>
          <a:xfrm>
            <a:off x="3276720" y="4876920"/>
            <a:ext cx="2286000" cy="177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5"/>
          <a:stretch/>
        </p:blipFill>
        <p:spPr>
          <a:xfrm>
            <a:off x="4952880" y="4038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29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5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50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introduced to and develop a basic understanding of copyright la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identify examples of copyright infring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tion of Copyrigh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gal right granted to an author, composer, playwright, publisher, or distributor to exclusive publications, production, sale, or distribution or a literary, musical, dramatic, or artistic wor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terary works (including computer program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usical works (including accompanying lyric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matic works (including accompanying musi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tomimes and choreographic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torial, graphic, and sculp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on picture and other audiovisu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und recor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rchitec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is not protected by a copyright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tles, names, short phrases, and slog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r symbols or desig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stings of ingredients or 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s, procedures, methods, systems, concepts, principles, and discove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Copyright “Owner”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as the right to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oduce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 spin off from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 copies by sale or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also give permission for others to do the s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pyright and Fair U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s regarding the fair use of copyrighted materials are sure to arise when using technology for teaching. While there are established guidelines for fair use, they are not preci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In The New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50:19Z</dcterms:created>
  <dc:creator>StaglN</dc:creator>
  <dc:description/>
  <dc:language>en-US</dc:language>
  <cp:lastModifiedBy>StaglN</cp:lastModifiedBy>
  <dcterms:modified xsi:type="dcterms:W3CDTF">2009-02-24T19:37:21Z</dcterms:modified>
  <cp:revision>11</cp:revision>
  <dc:subject/>
  <dc:title>Journey to Learn  2008</dc:title>
</cp:coreProperties>
</file>