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AEA-6E71-425C-8D2C-659743F5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83B2-05CB-444D-8767-F44D7F56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2F17-9976-41F3-B0C7-476337DF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DF2A-2D03-4FF9-A5E9-731FCC31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0180-E5E6-470F-94CE-ABFA7277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9A29-51C2-4946-909D-28322AC5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1D8E-A593-4CE1-BFBB-1818ADE9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A9D3-926D-401D-B4AA-E3214759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7BC2-235B-40EE-B2F5-272E8550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5096-C434-4E92-9984-4E19165C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B825-F84B-43EF-8E58-363BC91F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E5FC-32A5-4E49-B897-B0649DC9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6843-0552-42E3-88E0-F84A847B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7581-26A6-407C-A0B0-FE587A6E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1957-2D81-4DCA-9C56-6CFBBA7D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B990-4246-4D66-AEFB-755912FC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3095-6691-467A-AE32-5454DF63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9CE6-CF00-48C0-8909-27E87E41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C048-AA7E-49A5-9A72-EAFBAEC3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D3D9-BB0E-4383-BAD3-5C4F5666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B1DC-8413-43E8-8A42-704FD4BD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DC0F-6AA3-4B04-9D75-851528A5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C9EB-B139-4EF9-808B-F667E561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3967-CF23-4201-B8DA-31353A49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ECC9-579D-4AB1-A05C-827A05E1C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5932-7F7B-42A9-B054-B790BD0641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pr.org/templates/story/story.php?storyId=95965641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bbd71"/>
                </a:solidFill>
                <a:latin typeface="Arial"/>
              </a:rPr>
              <a:t>Journey to Learn </a:t>
            </a:r>
            <a:br>
              <a:rPr sz="5400"/>
            </a:br>
            <a:r>
              <a:rPr b="1" lang="en-US" sz="5400" spc="-1" strike="noStrike">
                <a:solidFill>
                  <a:srgbClr val="dbbd71"/>
                </a:solidFill>
                <a:latin typeface="Arial"/>
              </a:rPr>
              <a:t>2008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iday October 2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esented by: Nicole Stag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cKeesport Area School Distri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Networks Police YouTube For Copyright Violat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esidential campaigns have fallen victim to a common copyright problem on the Intern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npr.or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362320"/>
            <a:ext cx="4038840" cy="302868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3565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What You Need to Know About Copyrights in Your Classroom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Is it ok for me to put my syllabi, lesson plans, and other classroom notes on-line?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most situations under the Copyright Act of 1976, when you create a lesson plan or syllabi and share them with your class you will not have many probl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Am I allowed to show a rented movie as a reward for my class?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, it is not permissible to rent and show a movie as a reward, in a classroom. It is only legal to rent and show movies in a classroom where there is an instructional purpos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Can my students download images from the Internet to use in projects for the classroom?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, this is an example of fair use. Students may download and use copyrighted images as long as the projects are not distributed outside the classro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Can my students use brief copyrighted music clips to enhance a multimedia project?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, this is another example of fair use.  Students may use very short (30 seconds) audio clips as part of a multimedia presentation.  The project can not be posted on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???Any Questions???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2" name="Picture 6" descr="j0234687"/>
          <p:cNvPicPr/>
          <p:nvPr/>
        </p:nvPicPr>
        <p:blipFill>
          <a:blip r:embed="rId1"/>
          <a:stretch/>
        </p:blipFill>
        <p:spPr>
          <a:xfrm>
            <a:off x="2743200" y="3733920"/>
            <a:ext cx="3733920" cy="2200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43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Additional Copyright Cases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You be the Judge!!!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5" name="Picture 8" descr="MCj01992510000[1]"/>
          <p:cNvPicPr/>
          <p:nvPr/>
        </p:nvPicPr>
        <p:blipFill>
          <a:blip r:embed="rId1"/>
          <a:stretch/>
        </p:blipFill>
        <p:spPr>
          <a:xfrm>
            <a:off x="3581280" y="4191120"/>
            <a:ext cx="228600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You Be The Judg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y Parker Jr. vs. Huey Lew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hostbus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a New Dru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en and David Bowie vs. Vanilla 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 Pres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ce Ice Bab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7" descr="MCj01992510000[1]"/>
          <p:cNvPicPr/>
          <p:nvPr/>
        </p:nvPicPr>
        <p:blipFill>
          <a:blip r:embed="rId1"/>
          <a:stretch/>
        </p:blipFill>
        <p:spPr>
          <a:xfrm>
            <a:off x="3276720" y="4876920"/>
            <a:ext cx="2286000" cy="1779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"/>
          <p:cNvPicPr/>
          <p:nvPr/>
        </p:nvPicPr>
        <p:blipFill>
          <a:blip r:embed="rId3"/>
          <a:stretch/>
        </p:blipFill>
        <p:spPr>
          <a:xfrm>
            <a:off x="228600" y="3962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"/>
          <p:cNvPicPr/>
          <p:nvPr/>
        </p:nvPicPr>
        <p:blipFill>
          <a:blip r:embed="rId4"/>
          <a:stretch/>
        </p:blipFill>
        <p:spPr>
          <a:xfrm>
            <a:off x="4876920" y="30481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"/>
          <p:cNvPicPr/>
          <p:nvPr/>
        </p:nvPicPr>
        <p:blipFill>
          <a:blip r:embed="rId5"/>
          <a:stretch/>
        </p:blipFill>
        <p:spPr>
          <a:xfrm>
            <a:off x="4952880" y="40384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229000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250000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250000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87440"/>
            <a:ext cx="822960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will be introduced to and develop a basic understanding of copyright law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will identify examples of copyright infring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finition of Copyrigh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legal right granted to an author, composer, playwright, publisher, or distributor to exclusive publications, production, sale, or distribution or a literary, musical, dramatic, or artistic work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Works Are Protected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terary works (including computer program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usical works (including accompanying lyric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ramatic works (including accompanying music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ntomimes and choreographic work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Works Are Protected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ictorial, graphic, and sculptural work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tion picture and other audiovisu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ound recording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rchitectural work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What is not protected by a copyright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itles, names, short phrases, and sloga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amiliar symbols or desig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stings of ingredients or cont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deas, procedures, methods, systems, concepts, principles, and discoveri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Copyright “Owner” 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has the right to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oduce the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pare a spin off from the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e copies by sale or transf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orm the work public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play the work public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an also give permission for others to do the sa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pyright and Fair Us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uestions regarding the fair use of copyrighted materials are sure to arise when using technology for teaching. While there are established guidelines for fair use, they are not preci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In The News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3:50:19Z</dcterms:created>
  <dc:creator>StaglN</dc:creator>
  <dc:description/>
  <dc:language>en-US</dc:language>
  <cp:lastModifiedBy>StaglN</cp:lastModifiedBy>
  <dcterms:modified xsi:type="dcterms:W3CDTF">2009-02-24T19:37:21Z</dcterms:modified>
  <cp:revision>11</cp:revision>
  <dc:subject/>
  <dc:title>Journey to Learn  2008</dc:title>
</cp:coreProperties>
</file>