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828-209C-49D0-961E-62D3E50D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397-A618-4EAE-9ED1-8C6A1689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7BA-87D0-4AA4-A0A4-39000E1C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E9D-26F9-40E0-8800-1A3F7A5C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7BB-FE6E-4899-888A-F16D2499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8AD-F3A8-41E7-9F47-D1C9DFB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3DD2-BBA4-4D42-AA4D-931898BF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71FB-43C3-4C7D-A84A-686F99E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3616-2868-42AD-A430-43033DE4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726-B807-401B-B0D2-7DBD0AE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1A4E-6B5F-4C67-B350-26D4046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2B6-6496-4DB0-BB4E-9C75973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0AC9-FBE7-43D1-825A-1753B8A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877C-4DC0-4F8B-81B4-D341F59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AF6C-4A8B-4C02-B2CF-819AA77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DF90-6530-4230-90B9-CDD24D13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8D4A-018C-4AB0-A69A-71518F3F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17B-7645-4005-BCC2-F41545AD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BB1-7EC5-442A-B003-3305807C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1E3-5AB4-4722-AB5C-B5C4A90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A1D-8CBA-4CAB-923B-6BD352F3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DD8-28D6-49B0-A5EA-A2E0A79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A7E-9AD1-418A-A9DF-2930BC60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411-6AD6-40BA-9292-FF1CB2F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4256-70C0-40F3-9135-E6AD9FEBF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4DF-220B-4FC7-9390-F87C2C20B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pr.org/templates/story/story.php?storyId=9596564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Journey to Learn 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200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iday October 2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nted by: Nicole Stag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cKeesport Area School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works Police YouTube For Copyright Viol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ial campaigns have fallen victim to a common copyright problem on the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npr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3028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What You Need to Know About Copyrights in Your Classroom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s it ok for me to put my syllabi, lesson plans, and other classroom notes on-lin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situations under the Copyright Act of 1976, when you create a lesson plan or syllabi and share them with your class you will not have many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m I allowed to show a rented movie as a reward for my class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it is not permissible to rent and show a movie as a reward, in a classroom. It is only legal to rent and show movies in a classroom where there is an instructional purp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download images from the Internet to use in projects for the classroo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 example of fair use. Students may download and use copyrighted images as long as the projects are not distributed outside the class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use brief copyrighted music clips to enhance a multimedia project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other example of fair use.  Students may use very short (30 seconds) audio clips as part of a multimedia presentation.  The project can not be posted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??Any Questions??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6" descr="j0234687"/>
          <p:cNvPicPr/>
          <p:nvPr/>
        </p:nvPicPr>
        <p:blipFill>
          <a:blip r:embed="rId1"/>
          <a:stretch/>
        </p:blipFill>
        <p:spPr>
          <a:xfrm>
            <a:off x="2743200" y="3733920"/>
            <a:ext cx="3733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dditional Copyright Case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You be the Judge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MCj0199251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2286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You Be The Ju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 Parker Jr. vs. Huey Lew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ostb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a New Dr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and David Bowie vs. Vanilla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ce Ba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MCj01992510000[1]"/>
          <p:cNvPicPr/>
          <p:nvPr/>
        </p:nvPicPr>
        <p:blipFill>
          <a:blip r:embed="rId1"/>
          <a:stretch/>
        </p:blipFill>
        <p:spPr>
          <a:xfrm>
            <a:off x="3276720" y="4876920"/>
            <a:ext cx="2286000" cy="17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29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50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introduced to and develop a basic understanding of copyrigh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identify examples of copyright infring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tion of Copyrigh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gal right granted to an author, composer, playwright, publisher, or distributor to exclusive publications, production, sale, or distribution or a literary, musical, dramatic, or artistic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erary works (including computer program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sical works (including accompanying lyric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matic works (including accompanying mus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tomimes and choreographic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orial, graphic, and sculp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on picture and other audiovis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und recor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chitec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not protected by a copyrigh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tles, names, short phrases, and slog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r symbols or desig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ings of ingredients or 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s, procedures, methods, systems, concepts, principles, and discove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Copyright “Owner”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s the right to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oduce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 spin off from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 copies by sale or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also give permission for others to do the s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pyright and Fair 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regarding the fair use of copyrighted materials are sure to arise when using technology for teaching. While there are established guidelines for fair use, they are not preci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In The New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50:19Z</dcterms:created>
  <dc:creator>StaglN</dc:creator>
  <dc:description/>
  <dc:language>en-US</dc:language>
  <cp:lastModifiedBy>StaglN</cp:lastModifiedBy>
  <dcterms:modified xsi:type="dcterms:W3CDTF">2009-02-24T19:37:21Z</dcterms:modified>
  <cp:revision>11</cp:revision>
  <dc:subject/>
  <dc:title>Journey to Learn  2008</dc:title>
</cp:coreProperties>
</file>