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650-DCFD-424D-BDD7-50FC553E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400-720D-43E9-9BE1-52B47FA3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12A-6871-4212-AE47-2CA1E7D0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4F3-ACE3-43E4-A61F-10BDD34C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EE52-738C-47D4-95AF-982ACC94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AC0C-399A-411D-ABC9-4A6B4A60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D8D1-81AA-4661-95A9-52646F04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B1FF-999A-4171-95B0-A72211B4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467F-9C1C-468E-9140-D052016F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4D81-E465-4876-B9AA-CFB226BC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B06A-7224-481E-B9FD-81BE602C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CE1-E2D6-44A3-A35A-D40719BF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1154-F1AF-40ED-A9F6-44D6F151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5A89-AFF3-4333-A86B-D1FC8171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2D37-D22A-4A49-A020-6C19F35A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386A-A3AE-45A4-B5E3-FBA4ED3F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4F1B-BB0C-423B-A708-CF8BDC02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76C-3AEF-48F2-A4BD-031BFEDB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E73-0E2D-4D24-93DE-1E5B1931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A580-D4F8-44BB-BC6D-FA0C222E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21C-C04D-42AF-AF9B-40E91048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8AF-2483-46BC-A605-447E2CC9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608-3CA1-4D51-B27F-AE1D0A6F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175-5B07-4C64-9820-2D7B687F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E957-D65E-49B1-8FFD-BF0BEA905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3FB2-12DD-4624-A0C3-24B79D7E9F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pr.org/templates/story/story.php?storyId=95965641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Journey to Learn </a:t>
            </a:r>
            <a:br>
              <a:rPr sz="5400"/>
            </a:b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2008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iday October 2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sented by: Nicole Stag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cKeesport Area School Distr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tworks Police YouTube For Copyright Violat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idential campaigns have fallen victim to a common copyright problem on the Intern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npr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362320"/>
            <a:ext cx="4038840" cy="30286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What You Need to Know About Copyrights in Your Classroom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Is it ok for me to put my syllabi, lesson plans, and other classroom notes on-line?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ost situations under the Copyright Act of 1976, when you create a lesson plan or syllabi and share them with your class you will not have many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Am I allowed to show a rented movie as a reward for my class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, it is not permissible to rent and show a movie as a reward, in a classroom. It is only legal to rent and show movies in a classroom where there is an instructional purp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Can my students download images from the Internet to use in projects for the classroom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, this is an example of fair use. Students may download and use copyrighted images as long as the projects are not distributed outside the class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Can my students use brief copyrighted music clips to enhance a multimedia project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, this is another example of fair use.  Students may use very short (30 seconds) audio clips as part of a multimedia presentation.  The project can not be posted on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???Any Questions???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2" name="Picture 6" descr="j0234687"/>
          <p:cNvPicPr/>
          <p:nvPr/>
        </p:nvPicPr>
        <p:blipFill>
          <a:blip r:embed="rId1"/>
          <a:stretch/>
        </p:blipFill>
        <p:spPr>
          <a:xfrm>
            <a:off x="2743200" y="3733920"/>
            <a:ext cx="373392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Additional Copyright Cases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You be the Judge!!!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5" name="Picture 8" descr="MCj01992510000[1]"/>
          <p:cNvPicPr/>
          <p:nvPr/>
        </p:nvPicPr>
        <p:blipFill>
          <a:blip r:embed="rId1"/>
          <a:stretch/>
        </p:blipFill>
        <p:spPr>
          <a:xfrm>
            <a:off x="3581280" y="4191120"/>
            <a:ext cx="22860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You Be The Judg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y Parker Jr. vs. Huey Lew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hostbu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a New Dr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en and David Bowie vs. Vanilla 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ce Ice Bab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7" descr="MCj01992510000[1]"/>
          <p:cNvPicPr/>
          <p:nvPr/>
        </p:nvPicPr>
        <p:blipFill>
          <a:blip r:embed="rId1"/>
          <a:stretch/>
        </p:blipFill>
        <p:spPr>
          <a:xfrm>
            <a:off x="3276720" y="4876920"/>
            <a:ext cx="2286000" cy="1779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"/>
          <p:cNvPicPr/>
          <p:nvPr/>
        </p:nvPicPr>
        <p:blipFill>
          <a:blip r:embed="rId4"/>
          <a:stretch/>
        </p:blipFill>
        <p:spPr>
          <a:xfrm>
            <a:off x="4876920" y="3048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"/>
          <p:cNvPicPr/>
          <p:nvPr/>
        </p:nvPicPr>
        <p:blipFill>
          <a:blip r:embed="rId5"/>
          <a:stretch/>
        </p:blipFill>
        <p:spPr>
          <a:xfrm>
            <a:off x="4952880" y="40384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22900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250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5000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7440"/>
            <a:ext cx="82296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be introduced to and develop a basic understanding of copyright law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identify examples of copyright infring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finition of Copyrigh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legal right granted to an author, composer, playwright, publisher, or distributor to exclusive publications, production, sale, or distribution or a literary, musical, dramatic, or artistic wor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Works Are Protecte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terary works (including computer program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usical works (including accompanying lyric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amatic works (including accompanying music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ntomimes and choreographic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Works Are Protecte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ictorial, graphic, and sculptural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tion picture and other audiovisu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und recording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rchitectural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at is not protected by a copyright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itles, names, short phrases, and slog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miliar symbols or desig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stings of ingredients or cont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deas, procedures, methods, systems, concepts, principles, and discover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Copyright “Owner”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as the right to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oduce th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a spin off from th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e copies by sale or trans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 the work public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play the work public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also give permission for others to do the s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pyright and Fair Us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estions regarding the fair use of copyrighted materials are sure to arise when using technology for teaching. While there are established guidelines for fair use, they are not preci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In The News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3:50:19Z</dcterms:created>
  <dc:creator>StaglN</dc:creator>
  <dc:description/>
  <dc:language>en-US</dc:language>
  <cp:lastModifiedBy>StaglN</cp:lastModifiedBy>
  <dcterms:modified xsi:type="dcterms:W3CDTF">2009-02-24T19:37:21Z</dcterms:modified>
  <cp:revision>11</cp:revision>
  <dc:subject/>
  <dc:title>Journey to Learn  2008</dc:title>
</cp:coreProperties>
</file>