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2E0-5C4D-4164-9429-BBF54C43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232-E08A-41CF-92ED-C127573E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B63-CF1C-4ADD-B38E-0E2DE7AC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99B-64AD-43AD-A258-61F19138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2680-64BC-4D93-B377-273C36E1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46EA-6812-4AA9-937B-44A98E51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5E1D-4878-449C-ADAB-D7CD0F65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3D3E-22D5-4C40-A984-30E73579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7D08-F403-473D-85EA-41F36FC1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F575-DE5F-42BC-9068-9914B78C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6BD7-4B4A-42AA-A64A-EC27DFAA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863-3F63-45FA-B7D4-E4AA91D8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8100-2E80-4B62-BB8F-C703FF75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8246-6CA6-4961-84AC-28DD0BA7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93AC-9086-4C13-9ABC-65356505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F7AB-6118-4EEF-9CA8-456613EE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3079-609B-4FC3-83BF-E5C4DEAC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8FE-2938-4416-BEC1-9ACFBE7F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44C-770C-41D1-BC15-AA11A405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BF6-8120-4AEF-8B6A-EA4A17D8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34D-EC85-41BB-AEC2-F39813DD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FB9-5DB6-4996-B7BC-3BFED1AF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498-352B-490A-8961-1AEBE40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F24-DB25-4872-95F9-2A43293F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A399-AE6E-4B3B-BF0C-0717C104B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69FF-95CA-4F39-8B42-61A5A89F56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pr.org/templates/story/story.php?storyId=95965641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Journey to Learn </a:t>
            </a:r>
            <a:br>
              <a:rPr sz="5400"/>
            </a:b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2008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iday October 2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sented by: Nicole Stag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cKeesport Area School Distr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tworks Police YouTube For Copyright Violat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idential campaigns have fallen victim to a common copyright problem on the Intern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npr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362320"/>
            <a:ext cx="4038840" cy="30286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What You Need to Know About Copyrights in Your Classroom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Is it ok for me to put my syllabi, lesson plans, and other classroom notes on-line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ost situations under the Copyright Act of 1976, when you create a lesson plan or syllabi and share them with your class you will not have many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Am I allowed to show a rented movie as a reward for my class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, it is not permissible to rent and show a movie as a reward, in a classroom. It is only legal to rent and show movies in a classroom where there is an instructional purp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Can my students download images from the Internet to use in projects for the classroom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this is an example of fair use. Students may download and use copyrighted images as long as the projects are not distributed outside the class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Can my students use brief copyrighted music clips to enhance a multimedia project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this is another example of fair use.  Students may use very short (30 seconds) audio clips as part of a multimedia presentation.  The project can not be posted on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??Any Questions???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2" name="Picture 6" descr="j0234687"/>
          <p:cNvPicPr/>
          <p:nvPr/>
        </p:nvPicPr>
        <p:blipFill>
          <a:blip r:embed="rId1"/>
          <a:stretch/>
        </p:blipFill>
        <p:spPr>
          <a:xfrm>
            <a:off x="2743200" y="3733920"/>
            <a:ext cx="373392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Additional Copyright Case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You be the Judge!!!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Picture 8" descr="MCj01992510000[1]"/>
          <p:cNvPicPr/>
          <p:nvPr/>
        </p:nvPicPr>
        <p:blipFill>
          <a:blip r:embed="rId1"/>
          <a:stretch/>
        </p:blipFill>
        <p:spPr>
          <a:xfrm>
            <a:off x="3581280" y="4191120"/>
            <a:ext cx="22860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You Be The Judg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 Parker Jr. vs. Huey Lew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hostbu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a New Dr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en and David Bowie vs. Vanilla 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ce Ice Ba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7" descr="MCj01992510000[1]"/>
          <p:cNvPicPr/>
          <p:nvPr/>
        </p:nvPicPr>
        <p:blipFill>
          <a:blip r:embed="rId1"/>
          <a:stretch/>
        </p:blipFill>
        <p:spPr>
          <a:xfrm>
            <a:off x="3276720" y="4876920"/>
            <a:ext cx="2286000" cy="1779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4"/>
          <a:stretch/>
        </p:blipFill>
        <p:spPr>
          <a:xfrm>
            <a:off x="4876920" y="3048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"/>
          <p:cNvPicPr/>
          <p:nvPr/>
        </p:nvPicPr>
        <p:blipFill>
          <a:blip r:embed="rId5"/>
          <a:stretch/>
        </p:blipFill>
        <p:spPr>
          <a:xfrm>
            <a:off x="4952880" y="4038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229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25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5000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7440"/>
            <a:ext cx="82296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be introduced to and develop a basic understanding of copyright law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identify examples of copyright infring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finition of Copyrigh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egal right granted to an author, composer, playwright, publisher, or distributor to exclusive publications, production, sale, or distribution or a literary, musical, dramatic, or artistic wor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Works Are Protect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terary works (including computer program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usical works (including accompanying lyric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ramatic works (including accompanying music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ntomimes and choreographic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Works Are Protect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ictorial, graphic, and sculptural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tion picture and other audiovisu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und record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rchitectural work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at is not protected by a copyright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itles, names, short phrases, and sloga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miliar symbols or desig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stings of ingredients or cont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deas, procedures, methods, systems, concepts, principles, and discover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Copyright “Owner”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as the right to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oduce th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a spin off from th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e copies by sale or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the work public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lay the work public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also give permission for others to do the s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pyright and Fair Us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estions regarding the fair use of copyrighted materials are sure to arise when using technology for teaching. While there are established guidelines for fair use, they are not preci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In The New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3:50:19Z</dcterms:created>
  <dc:creator>StaglN</dc:creator>
  <dc:description/>
  <dc:language>en-US</dc:language>
  <cp:lastModifiedBy>StaglN</cp:lastModifiedBy>
  <dcterms:modified xsi:type="dcterms:W3CDTF">2009-02-24T19:37:21Z</dcterms:modified>
  <cp:revision>11</cp:revision>
  <dc:subject/>
  <dc:title>Journey to Learn  2008</dc:title>
</cp:coreProperties>
</file>