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214-002F-4DF3-AD56-EB69B3E2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F89-A04F-4F18-8BA3-0FA2AC54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302-76DD-4C96-8167-ED096E38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A64-0A48-4213-991B-41B8793F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EE19-370F-4FC2-9E92-BC4FC4B7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8BD4-3AE5-469F-AA7C-42E8DF0A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83F5-1BA4-4F7E-9BDF-0F9DD598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A26E-D499-424E-9CE9-FD672DFE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B02C-2778-455A-8231-A68D553D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CE5B-B67E-4061-B024-9EEE3177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13AF-50A6-412A-B0F7-1326FA5E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346-82C1-4E59-A164-D7B05BA2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ADD4-8A3A-4125-B0EA-5411F8AA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AC02-95FC-4DF5-BB61-EF09D70B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A4C4-3DBC-4D3A-B08E-65CC7D29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376E-8D78-4BB9-BDF9-3CB2E1FF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4B4E-EDB1-4702-84EA-BA2DA369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743-31FC-4479-98CD-E543E6A3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90F-08FD-4F14-BA73-1C69360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7D8-4F0D-426A-B521-15EE49A8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5F6-AB44-4EB7-9434-8C00AA50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DFF-4578-4585-A9FB-A30412B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EBA-5C49-437D-BA06-DD791419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A35-DDD4-4CC5-AE98-5AF142C9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2020-4B88-4306-87DD-87625B9C2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6DDF-5A64-4288-A73E-26773F18AF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pr.org/templates/story/story.php?storyId=95965641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Journey to Learn 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200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iday October 2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sented by: Nicole Stag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cKeesport Area School Distr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tworks Police YouTube For Copyright Violat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idential campaigns have fallen victim to a common copyright problem on the 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npr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038840" cy="30286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What You Need to Know About Copyrights in Your Classroom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s it ok for me to put my syllabi, lesson plans, and other classroom notes on-line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ost situations under the Copyright Act of 1976, when you create a lesson plan or syllabi and share them with your class you will not have many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m I allowed to show a rented movie as a reward for my class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, it is not permissible to rent and show a movie as a reward, in a classroom. It is only legal to rent and show movies in a classroom where there is an instructional purp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download images from the Internet to use in projects for the classroom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 example of fair use. Students may download and use copyrighted images as long as the projects are not distributed outside the class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use brief copyrighted music clips to enhance a multimedia project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other example of fair use.  Students may use very short (30 seconds) audio clips as part of a multimedia presentation.  The project can not be posted on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??Any Questions???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2" name="Picture 6" descr="j0234687"/>
          <p:cNvPicPr/>
          <p:nvPr/>
        </p:nvPicPr>
        <p:blipFill>
          <a:blip r:embed="rId1"/>
          <a:stretch/>
        </p:blipFill>
        <p:spPr>
          <a:xfrm>
            <a:off x="2743200" y="3733920"/>
            <a:ext cx="37339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Additional Copyright Case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You be the Judge!!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Picture 8" descr="MCj01992510000[1]"/>
          <p:cNvPicPr/>
          <p:nvPr/>
        </p:nvPicPr>
        <p:blipFill>
          <a:blip r:embed="rId1"/>
          <a:stretch/>
        </p:blipFill>
        <p:spPr>
          <a:xfrm>
            <a:off x="3581280" y="4191120"/>
            <a:ext cx="22860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You Be The Jud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 Parker Jr. vs. Huey Lew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hostbu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a New Dr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and David Bowie vs. Vanilla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 Ice Ba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7" descr="MCj01992510000[1]"/>
          <p:cNvPicPr/>
          <p:nvPr/>
        </p:nvPicPr>
        <p:blipFill>
          <a:blip r:embed="rId1"/>
          <a:stretch/>
        </p:blipFill>
        <p:spPr>
          <a:xfrm>
            <a:off x="3276720" y="4876920"/>
            <a:ext cx="2286000" cy="177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5"/>
          <a:stretch/>
        </p:blipFill>
        <p:spPr>
          <a:xfrm>
            <a:off x="4952880" y="4038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229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25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500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introduced to and develop a basic understanding of copyright law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identify examples of copyright infring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tion of Copyrigh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gal right granted to an author, composer, playwright, publisher, or distributor to exclusive publications, production, sale, or distribution or a literary, musical, dramatic, or artistic wor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terary works (including computer program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usical works (including accompanying lyric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amatic works (including accompanying music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ntomimes and choreographic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ictorial, graphic, and sculp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ion picture and other audiovisu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und recor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rchitec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is not protected by a copyright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itles, names, short phrases, and slog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miliar symbols or desig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stings of ingredients or cont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s, procedures, methods, systems, concepts, principles, and discover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Copyright “Owner”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as the right to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oduce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 spin off from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e copies by sale or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lay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also give permission for others to do the s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pyright and Fair Us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stions regarding the fair use of copyrighted materials are sure to arise when using technology for teaching. While there are established guidelines for fair use, they are not preci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In The New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3:50:19Z</dcterms:created>
  <dc:creator>StaglN</dc:creator>
  <dc:description/>
  <dc:language>en-US</dc:language>
  <cp:lastModifiedBy>StaglN</cp:lastModifiedBy>
  <dcterms:modified xsi:type="dcterms:W3CDTF">2009-02-24T19:37:21Z</dcterms:modified>
  <cp:revision>11</cp:revision>
  <dc:subject/>
  <dc:title>Journey to Learn  2008</dc:title>
</cp:coreProperties>
</file>