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58E-D6C1-4483-A30B-8080F81C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EF0-87DB-4006-A145-EB87B181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19E-8805-4C1D-AC53-F4549ED3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662-3BC8-4630-893C-47136111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DA8-257A-4AE9-AB6C-4E404871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840-ED60-4D08-B358-400FC8D1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0C6-0930-4B1C-A64E-2AD3303D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9C4-CC76-4E02-89A3-A52D8627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05E-CDAD-4B24-B4AF-04F112D1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BAB-85A2-4E90-9E6F-5D1C502F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3A4-A117-428C-80F0-8D39F274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599-EE3F-4FD3-A4B1-8E28ABA7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9677-0E09-4D7E-9990-194AB615A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51Z</dcterms:created>
  <dc:creator>schottw</dc:creator>
  <dc:description/>
  <dc:language>en-US</dc:language>
  <cp:lastModifiedBy>schottw</cp:lastModifiedBy>
  <dcterms:modified xsi:type="dcterms:W3CDTF">2008-03-18T20:20:54Z</dcterms:modified>
  <cp:revision>1</cp:revision>
  <dc:subject/>
  <dc:title>Slide 1</dc:title>
</cp:coreProperties>
</file>