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EB3-509A-42A8-8254-FD3BF8F8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0DD-6EFD-49E6-ACA4-13368FB9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C13-A0EF-4812-A035-50B0A998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ADA-A097-4B67-9487-66945F4D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EF2A-61EA-4CC5-95A1-59E31181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4EA2-D30E-4907-8282-A736AB77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FE9-7F93-4E64-8973-19C70B0E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BBF-06FE-405B-8A20-9A761FF6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7DFD-950F-4313-BABF-F3351F76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B438-9FDC-4151-9EFB-729167C3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1A6-CBDD-4C86-9ECE-E3C73E49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0852-67C9-4257-83C9-BB1B7BFC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E0A9-C9DB-4503-BE93-136AF5756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0:51Z</dcterms:created>
  <dc:creator>schottw</dc:creator>
  <dc:description/>
  <dc:language>en-US</dc:language>
  <cp:lastModifiedBy>schottw</cp:lastModifiedBy>
  <dcterms:modified xsi:type="dcterms:W3CDTF">2008-03-18T20:20:54Z</dcterms:modified>
  <cp:revision>1</cp:revision>
  <dc:subject/>
  <dc:title>Slide 1</dc:title>
</cp:coreProperties>
</file>