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05D-5844-4897-A1AE-21335A13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152-1A5F-43F9-8228-C3C92C44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36C-0A10-4B51-BE4B-429E9A76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E25-276E-480A-905C-9CBDB9D6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A8D-8700-442B-B014-1E05E9B5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7ED-1F7B-4747-9A2B-E7A27374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BC9-6B26-4589-B536-6BC1232C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782-3C1A-47E3-BB8A-FD81B624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BF7-DF69-4AE5-B499-CDA4F9D9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AD5-0612-49B3-86A6-93DE509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BDF-C46B-4FE6-A250-5305A54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B92-34F2-4EFA-8FCF-5FB47508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4270-102A-45AC-B83E-3E24DC6DD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51Z</dcterms:created>
  <dc:creator>schottw</dc:creator>
  <dc:description/>
  <dc:language>en-US</dc:language>
  <cp:lastModifiedBy>schottw</cp:lastModifiedBy>
  <dcterms:modified xsi:type="dcterms:W3CDTF">2008-03-18T20:20:54Z</dcterms:modified>
  <cp:revision>1</cp:revision>
  <dc:subject/>
  <dc:title>Slide 1</dc:title>
</cp:coreProperties>
</file>