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E25-EDDD-4FB5-AC42-6D2A0406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7C0-DF86-4E62-AB0C-9A5D55C4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0CF-2A99-4B76-AFF9-331E0C85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5BD-C16C-42BD-A51F-3581F4EC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4E8-3E29-4FAF-9461-FE70B70E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D90-CAA7-43C4-A9A6-02171780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80D-54B6-4D03-95B7-44FD91C7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978-431E-4204-B880-EBCEC547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6C0-CAE3-46DE-80EF-A4EFD94D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BFB-ED0C-47B2-8469-5A126E4D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C47-8AD2-4656-A091-7F41469C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91D-0FB8-489C-A0FF-9F0FEF2D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FB1F-CEAD-469D-8B35-7C28B0871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0:51Z</dcterms:created>
  <dc:creator>schottw</dc:creator>
  <dc:description/>
  <dc:language>en-US</dc:language>
  <cp:lastModifiedBy>schottw</cp:lastModifiedBy>
  <dcterms:modified xsi:type="dcterms:W3CDTF">2008-03-18T20:20:54Z</dcterms:modified>
  <cp:revision>1</cp:revision>
  <dc:subject/>
  <dc:title>Slide 1</dc:title>
</cp:coreProperties>
</file>