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07C-C087-4489-823C-9C5D4C8E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6DA-AAE8-46DE-9E76-2AC77A77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B6C-A6AB-44E8-BD65-09A55BEF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B6D-C065-4AFA-B735-EA6534AA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3F5-3BF8-4E30-8C2C-0F8BB124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1D6-CA8D-4838-AEF8-6A9107F9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F1A-D1D7-4718-948B-BDFAB309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656-0610-4BEA-970A-F1B15D6B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1AE-407A-4FCD-AF54-912A49C8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4F3-9538-480F-9F86-C3F1AD0C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B37-DEE9-4D8D-A968-EEF725B7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1EB-D5F4-4332-99A0-3ECC8019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57E7-FA84-43A5-9542-8BDB1DA0A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0:51Z</dcterms:created>
  <dc:creator>schottw</dc:creator>
  <dc:description/>
  <dc:language>en-US</dc:language>
  <cp:lastModifiedBy>schottw</cp:lastModifiedBy>
  <dcterms:modified xsi:type="dcterms:W3CDTF">2008-03-18T20:20:54Z</dcterms:modified>
  <cp:revision>1</cp:revision>
  <dc:subject/>
  <dc:title>Slide 1</dc:title>
</cp:coreProperties>
</file>