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3B0-DE71-4516-A46D-1503F75C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24C-BF05-49E7-A86E-7FD59E2C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8E5-705C-49CE-B7A0-C8E9A509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30B-7B4E-40F6-8051-D363C457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334-41B3-4930-A643-2A4CCF3C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F74-91B6-4575-9F1E-E505D54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883-A4B5-4AAD-A22D-33AC0656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88F-D9D0-46E0-B6DA-A45C125C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A12-62C9-4AA0-A142-17ABC88C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38E-86A3-48F7-9536-FEF9F8C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001-80D9-4BFE-8DB5-4761A41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24A-9BFF-40C4-811D-3051B3F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9843-7D35-45E5-A052-2BE66483B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works, work) hard during the week but (relaxes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players or the coach (thanks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revise) nor (proofreads, proofread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brothers and sisters both (plays, play) and (sings, sing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Ruth or Betty (feeds, feed) the children and (puts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sisters nor their brother (weeds, weed) the garden or (mows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) hard during the week but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v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or (proofread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o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(play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(sing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d) the children and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thei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ed) the garden or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ne subject and on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udora We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ved in Mississip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may have a compound subject, a compound predicate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contains two or more simple sentences joined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rdin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, but, or) or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lty is a novelis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    bu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e also writes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ence is two or more sentences incorrectly written as one sentence.  To correct a run-on, write separate sentences or combine th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,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.  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imple, compound, or run-on to identify each numbered item.  If an item is a run-on, rewrite it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chool bus stops at the corner of my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e went to a movie then we stopped for a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school bus stops at the corner of my street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e went to a movie then we stopped for a snack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two or more simple subjects that have the same predicate.  The subjects may b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, or, both…and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ere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two simple subject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…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mpound subject is plural.  Use the plural form of the verb to agree with the plural compound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imple subjects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 must agree with the nearer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avorit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arer subject, so the singular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singular form of the verb is used 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r 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plural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two or more simple predicates, or verbs, that have the same subject.  The verbs may be conn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, or, but, both…and, either…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bs agree with the plural subj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the correct form of the verb in parentheses.  Then underline the compound subjects once and the compound predicates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ita Dove and Robert Frost (is, are) two famous American po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tel guests either (reads, read) or (naps, nap) in the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oth owls and raccoons (hunts, hunt)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chef or his assistants (bakes, bake) and (decorates, decorate) the wedding c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ita D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bert Fr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wo famous American po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hotel guests either (read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(nap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cco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unt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k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b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decorat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eco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 weddin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1:53:15Z</dcterms:created>
  <dc:creator>althofb</dc:creator>
  <dc:description/>
  <dc:language>en-US</dc:language>
  <cp:lastModifiedBy>althofb</cp:lastModifiedBy>
  <dcterms:modified xsi:type="dcterms:W3CDTF">2007-07-20T12:08:11Z</dcterms:modified>
  <cp:revision>2</cp:revision>
  <dc:subject/>
  <dc:title>Compound subjects and compound predicates</dc:title>
</cp:coreProperties>
</file>