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34E9-3DD4-4E69-9F05-301EBA8EB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28CE-66CF-4D8F-BDD1-B889E023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0523-3FCD-4E97-BE19-D8DAFB9D9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DD8C-24A0-4879-886D-D13DDABF2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1073-5A20-4B31-B2FA-0F613473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AA94-C1BB-441A-8EFD-133F7022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D549-E138-49EE-AF15-A9067C21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91E7-F9F2-4B51-83D3-3643992E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DF28-D383-468D-8BDC-75F12432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6910-4822-4984-B175-03263D95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DBFA-E436-4298-8AE9-1F3D9B10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EE0D-A1E7-48BE-9FDA-A7AA35F4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D2B9-B5CF-41FC-9B4D-B6C7CBAE6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und subjects and compound predic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Althea (works, work) hard during the week but (relaxes, relax) on Saturday and Sun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The players or the coach (thanks, thank) the cheerlea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Some students neither (revises, revise) nor (proofreads, proofread) their compos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 The brothers and sisters both (plays, play) and (sings, sing)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Either Ruth or Betty (feeds, feed) the children and (puts, put) them to b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 Neither the three sisters nor their brother (weeds, weed) the garden or (mows, mow) the la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Althea (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wor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ork) hard during the week but (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relax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lax) on Saturday and Sun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lay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a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than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ank) the cheerlea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Some students neither (revises,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revi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nor (proofreads,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proof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heir compos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roth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s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th (plays,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p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(sings,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Eithe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u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et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fee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eed) the children and (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pu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ut) them to b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 Neither the thre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s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r thei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ro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wee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ed) the garden or (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mow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ow) the la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, compound, and run-on sent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mple 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one subject and one predic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udora Wel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lived in Mississip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, compound, and run-on sent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imple sentence may have a compound subject, a compound predicate, or bo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Jef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enjo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, compound, and run-on sent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pound 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entence that contains two or more simple sentences joined by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m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ordina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j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, but, or) or by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micol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lty is a novelist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;    but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she also writes ess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, compound, and run-on sent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un-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ntence is two or more sentences incorrectly written as one sentence.  To correct a run-on, write separate sentences or combine the sent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un-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ty wrote novels she wrote ess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ty wrote novels, she wrote ess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, compound, and run-on sent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ty wrote novels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.  S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rote ess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ty wrote novels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, 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e wrote ess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ty wrote novels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e wrote ess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Simple, Compound, and Run-On Senten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simple, compound, or run-on to identify each numbered item.  If an item is a run-on, rewrite it correc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The school bus stops at the corner of my str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LaToya missed the basket, but Laura caught the reb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We went to a movie then we stopped for a sn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Ms. Martin’s class made the posters, and Mr. Rossi’s class sold tick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Simple, Compound, and Run-On Senten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The school bus stops at the corner of my street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LaToya missed the basket, but Laura caught the rebound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We went to a movie then we stopped for a snack.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un-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Ms. Martin’s class made the posters, and Mr. Rossi’s class sold tickets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Simple, Compound, and Run-On Senten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Lawyers prepare their cases and defend their clients in cou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Cars and trucks steam across the bridge and disappear into the tun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 Did George Washington really chop down his father’s cherry tree, or is that story just a lege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 Dad washes dishes by hand Mom puts them in the dishwas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 The wind howls, and the hikers huddle in their tents and drink hot s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  The engine sputters and coughs, the car jerks forward and then sto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pound 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ists of two or more simple subjects that have the same predicate.  The subjects may be joined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d, or, both…and, either…or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neither…n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arlotte Bron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mily Bron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were sis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Simple, Compound, and Run-On Senten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Lawyers prepare their cases and defend their clients in court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Cars and trucks steam across the bridge and disappear into the tunnel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 Did George Washington really chop down his father’s cherry tree, or is that story just a legend?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 Dad washes dishes by hand Mom puts them in the dishwasher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un-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 The wind howls, and the hikers huddle in their tents and drink hot soup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  The engine sputters and coughs, the car jerks forward and then stops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un-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two simple subjects are joined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th…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ompound subject is plural.  Use the plural form of the verb to agree with the plural compound su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imple subjects are joined together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r, either…or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neither…nor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erb must agree with the nearer simple su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the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arlot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n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mi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y favorite auth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mi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nearer subject, so the singular form of the verb is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ther he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s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n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arlot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w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tgo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arlot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nearer subject, so the singular form of the verb is used here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the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arlot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n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er sis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w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tgo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s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nearer subject, so the plural form of the verb is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compound predic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ists of two or more simple predicates, or verbs, that have the same subject.  The verbs may be conn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, or, but, both…and, either…or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neither…n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stud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re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enjo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verbs agree with the plural subject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le the correct form of the verb in parentheses.  Then underline the compound subjects once and the compound predicates tw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ita Dove and Robert Frost (is, are) two famous American po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hotel guests either (reads, read) or (naps, nap) in the afterno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Both owls and raccoons (hunts, hunt)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The chef or his assistants (bakes, bake) and (decorates, decorate) the wedding cak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Rita Do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bert Fro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is,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two famous American po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 hotel guests either (reads,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or (naps,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na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n the aftern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Both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w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acco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hunts,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hu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e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h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ssista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bakes,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ba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nd (decorates,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decor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the wedding c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11:53:15Z</dcterms:created>
  <dc:creator>althofb</dc:creator>
  <dc:description/>
  <dc:language>en-US</dc:language>
  <cp:lastModifiedBy>althofb</cp:lastModifiedBy>
  <dcterms:modified xsi:type="dcterms:W3CDTF">2007-07-20T12:08:11Z</dcterms:modified>
  <cp:revision>2</cp:revision>
  <dc:subject/>
  <dc:title>Compound subjects and compound predicates</dc:title>
</cp:coreProperties>
</file>