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ABE-294A-4AA3-8DD8-EAECCB10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0C7-5574-473E-8E6D-27EE2F7F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DCA-0025-4A59-9BA2-B51437A1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F041-F968-4A06-BD26-ABE6BCC8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8F3-235F-4DFE-9EC1-B99ACFB7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FC7-BD6A-415A-8F72-914BC9C8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24B-3BD9-4BB2-8C35-565A37E2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657-3227-4FC6-B4A7-E86919BF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263-4B1C-47A7-863A-62F19244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C5B-332D-4B38-AF09-28AEB335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C10-77A7-40BB-8633-3BF75981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997-8C8E-40E7-8A88-E7124CA2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5B66-9F20-4F57-8B9C-07E744F39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lthea (works, work) hard during the week but (relaxes, relax) on Saturday and Su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The players or the coach (thanks, thank) the cheer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ome students neither (revises, revise) nor (proofreads, proofread) their com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The brothers and sisters both (plays, play) and (sings, sing)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Either Ruth or Betty (feeds, feed) the children and (puts, put) them to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Neither the three sisters nor their brother (weeds, weed) the garden or (mows, mow) the l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lthea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) hard during the week but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relax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lax) on Saturday and Su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th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ank) the cheer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ome students neither (revise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rev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nor (proofread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roof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ir com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t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th (play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(sing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Eith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u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t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f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eed) the children and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ut) them to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Neither the thre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r thei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ed) the garden or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ow) the l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one subject and on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udora Wel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lived in Mississip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sentence may have a compound subject, a compound predicate, or b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enj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ound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contains two or more simple sentences joined by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ordin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j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, but, or) or by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micol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lty is a novelist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;    bu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she also writes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n-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tence is two or more sentences incorrectly written as one sentence.  To correct a run-on, write separate sentences or combine the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n-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,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.  S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imple, compound, or run-on to identify each numbered item.  If an item is a run-on, rewrite it cor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The school bus stops at the corner of my str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LaToya missed the basket, but Laura caught the reb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e went to a movie then we stopped for a sn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Ms. Martin’s class made the posters, and Mr. Rossi’s class sold ti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he school bus stops at the corner of my street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LaToya missed the basket, but Laura caught the rebound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We went to a movie then we stopped for a snack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s. Martin’s class made the posters, and Mr. Rossi’s class sold tickets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Lawyers prepare their cases and defend their clients in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Cars and trucks steam across the bridge and disappear into the tu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Did George Washington really chop down his father’s cherry tree, or is that story just a leg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Dad washes dishes by hand Mom puts them in the dishwas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The wind howls, and the hikers huddle in their tents and drink hot s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 The engine sputters and coughs, the car jerks forward and then st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ound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 two or more simple subjects that have the same predicate.  The subjects may be join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, or, both…and, either…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neither…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 Bro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Bro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were si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Lawyers prepare their cases and defend their clients in court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Cars and trucks steam across the bridge and disappear into the tunnel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Did George Washington really chop down his father’s cherry tree, or is that story just a legend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Dad washes dishes by hand Mom puts them in the dishwasher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The wind howls, and the hikers huddle in their tents and drink hot soup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 The engine sputters and coughs, the car jerks forward and then stops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two simple subjects are join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th…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mpound subject is plural.  Use the plural form of the verb to agree with the plural compound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imple subjects are joined togethe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, either…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neither…n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rb must agree with the nearer simple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favorite aut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mi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nearer subject, so the singular form of the verb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earer subject, so the singular form of the verb is used here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r 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earer subject, so the plural form of the verb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ompound predic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s of two or more simple predicates, or verbs, that have the same subject.  The verbs may be conn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, or, but, both…and, either…or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neither…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enj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verbs agree with the plural subject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 the correct form of the verb in parentheses.  Then underline the compound subjects once and the compound predicates tw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ita Dove and Robert Frost (is, are) two famous American po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hotel guests either (reads, read) or (naps, nap) in the aftern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oth owls and raccoons (hunts, hunt)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chef or his assistants (bakes, bake) and (decorates, decorate) the wedding ca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ita D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bert Fr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wo famous American po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hotel guests either (read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(nap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the after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cco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hunt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h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e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h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sist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ake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b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(decorate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deco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e wedding c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1:53:15Z</dcterms:created>
  <dc:creator>althofb</dc:creator>
  <dc:description/>
  <dc:language>en-US</dc:language>
  <cp:lastModifiedBy>althofb</cp:lastModifiedBy>
  <dcterms:modified xsi:type="dcterms:W3CDTF">2007-07-20T12:08:11Z</dcterms:modified>
  <cp:revision>2</cp:revision>
  <dc:subject/>
  <dc:title>Compound subjects and compound predicates</dc:title>
</cp:coreProperties>
</file>