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4AB-48A7-479B-AB84-C9B46E66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DB7-7717-4142-AC9F-8357FED5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74C-47E7-4382-8301-4152BA07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EBE-F5FA-467A-AEAF-693FA121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E5B-25D6-4359-86E1-B230DE07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370-8173-4D8F-BF11-30DCA3C4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38F-E6F2-4BFA-8B26-7FF21BAF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458-8744-42C3-B65B-38DE0559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0C8-4FBC-4B63-A165-005EC798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804-21FB-4758-B5F8-42CF3334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514-E610-4248-B9A1-B789554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56D-6C7C-4DDD-A734-D7CB4B46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C946-6B59-48EF-9059-E032BF41A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works, work) hard during the week but (relaxes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players or the coach (thanks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revise) nor (proofreads, proofread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brothers and sisters both (plays, play) and (sings, sing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Ruth or Betty (feeds, feed) the children and (puts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sisters nor their brother (weeds, weed) the garden or (mows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lthea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ork) hard during the week but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lax) on Saturday and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y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nk) the cheer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ome students neither (revise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rev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or (proofread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roof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ir com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 (play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(sings,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Eith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t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f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eed) the children and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ut) them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Neither the thre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thei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ed) the garden or (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ow) the la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pl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one subject and one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udora Wel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lived in Mississip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sentence may have a compound subject, a compound predicate, or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e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contains two or more simple sentences joined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ordin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, but, or) or by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micol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lty is a novelist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    bu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he also writes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tence is two or more sentences incorrectly written as one sentence.  To correct a run-on, write separate sentences or combine the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,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, compound, and run-on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.  S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ty wrote novels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rote ess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imple, compound, or run-on to identify each numbered item.  If an item is a run-on, rewrite it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he school bus stops at the corner of my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e went to a movie then we stopped for a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school bus stops at the corner of my street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aToya missed the basket, but Laura caught the rebound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e went to a movie then we stopped for a snack.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s. Martin’s class made the posters, and Mr. Rossi’s class sold tickets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ound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two or more simple subjects that have the same predicate.  The subjects may b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, or, both…and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Bro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were s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imple, Compound, and Run-On Senten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Lawyers prepare their cases and defend their clients in court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Cars and trucks steam across the bridge and disappear into the tunnel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Did George Washington really chop down his father’s cherry tree, or is that story just a legend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Dad washes dishes by hand Mom puts them in the dishwasher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 The wind howls, and the hikers huddle in their tents and drink hot soup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 The engine sputters and coughs, the car jerks forward and then stops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-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two simple subjects ar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h…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mpound subject is plural.  Use the plural form of the verb to agree with the plural compound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imple subjects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r, either…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neither…nor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b must agree with the nearer simpl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favorite auth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nearer subject, so the singular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singular form of the verb is used here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th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arlot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r 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earer subject, so the plural form of the verb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two or more simple predicates, or verbs, that have the same subject.  The verbs may be conn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, or, but, both…and, either…or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either…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njo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erbs agree with the plural subject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 the correct form of the verb in parentheses.  Then underline the compound subjects once and the compound predicates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ita Dove and Robert Frost (is, are) two famous American po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hotel guests either (reads, read) or (naps, nap) in the aftern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oth owls and raccoons (hunts, hunt)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chef or his assistants (bakes, bake) and (decorates, decorate) the wedding c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ompound subjects and compound predic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ita D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bert Fr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wo famous American po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hotel guests either (read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(nap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n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o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cco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hunt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h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si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k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b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decorates,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deco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 wedding 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1:53:15Z</dcterms:created>
  <dc:creator>althofb</dc:creator>
  <dc:description/>
  <dc:language>en-US</dc:language>
  <cp:lastModifiedBy>althofb</cp:lastModifiedBy>
  <dcterms:modified xsi:type="dcterms:W3CDTF">2007-07-20T12:08:11Z</dcterms:modified>
  <cp:revision>2</cp:revision>
  <dc:subject/>
  <dc:title>Compound subjects and compound predicates</dc:title>
</cp:coreProperties>
</file>