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59A1-FDED-4B91-81D6-5273A4162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1E19-79E4-42FD-A5ED-342D364F1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6B8E-804E-4ADB-A640-F6F3A2A9B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7B19-7D2A-4BB2-ACE9-97892C051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6B86-D0DA-44A8-A40F-586EB99A4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8AB1-0FD1-4A36-9ED8-ED281CF80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989D-3FC0-4A2B-905C-7EFA22F36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2AF8-FA34-4933-B13E-EEE7A9D8D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795E-D600-4A7E-A92A-6FDB81965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6F77-445E-44B0-A2EE-0A6393233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456A-AC03-4BAC-8224-D2E71705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C950-4FA0-4C21-9860-BF8D3EA12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83A75-83CE-469A-9D77-7C8F5758CB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ound subjects and compound predic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ing compound subjects and compound predic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Althea (works, work) hard during the week but (relaxes, relax) on Saturday and Sun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The players or the coach (thanks, thank) the cheerlead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Some students neither (revises, revise) nor (proofreads, proofread) their composi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  The brothers and sisters both (plays, play) and (sings, sing)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 Either Ruth or Betty (feeds, feed) the children and (puts, put) them to b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  Neither the three sisters nor their brother (weeds, weed) the garden or (mows, mow) the law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ing compound subjects and compound predic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Althea (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wor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ork) hard during the week but (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relax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relax) on Saturday and Sun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lay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a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than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ank) the cheerlead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Some students neither (revises, 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revi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nor (proofreads, 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proofr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their composi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 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roth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ist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oth (plays, 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pl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and (sings, 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s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 Either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u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et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fee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feed) the children and (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pu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ut) them to b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  Neither the thre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ist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or their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roth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wee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eed) the garden or (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mow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ow) the law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ple, compound, and run-on sent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imple sent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as one subject and one predic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udora Wel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lived in Mississip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ple, compound, and run-on sent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imple sentence may have a compound subject, a compound predicate, or bo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Jef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enjo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o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ple, compound, and run-on sent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mpound sent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sentence that contains two or more simple sentences joined by 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mm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ordinat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njun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, but, or) or by 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emicol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elty is a novelist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;    but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she also writes ess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ple, compound, and run-on sent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un-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ntence is two or more sentences incorrectly written as one sentence.  To correct a run-on, write separate sentences or combine the sent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un-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lty wrote novels she wrote ess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lty wrote novels, she wrote ess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ple, compound, and run-on sent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lty wrote novels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.  S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rote ess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lty wrote novels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, 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he wrote ess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lty wrote novels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he wrote ess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ing Simple, Compound, and Run-On Sentenc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simple, compound, or run-on to identify each numbered item.  If an item is a run-on, rewrite it correct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The school bus stops at the corner of my stre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LaToya missed the basket, but Laura caught the rebou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We went to a movie then we stopped for a sna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Ms. Martin’s class made the posters, and Mr. Rossi’s class sold ticke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ing Simple, Compound, and Run-On Sentenc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The school bus stops at the corner of my street.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LaToya missed the basket, but Laura caught the rebound.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We went to a movie then we stopped for a snack.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un-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Ms. Martin’s class made the posters, and Mr. Rossi’s class sold tickets.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ing Simple, Compound, and Run-On Sentenc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Lawyers prepare their cases and defend their clients in cou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 Cars and trucks steam across the bridge and disappear into the tunn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. Did George Washington really chop down his father’s cherry tree, or is that story just a lege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. Dad washes dishes by hand Mom puts them in the dishwas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. The wind howls, and the hikers huddle in their tents and drink hot s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.  The engine sputters and coughs, the car jerks forward and then sto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ound subjects and compound predic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mpound subj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ists of two or more simple subjects that have the same predicate.  The subjects may be joined b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nd, or, both…and, either…or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neither…n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harlotte Bron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mily Bron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were sis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ing Simple, Compound, and Run-On Sentenc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Lawyers prepare their cases and defend their clients in court.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 Cars and trucks steam across the bridge and disappear into the tunnel.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. Did George Washington really chop down his father’s cherry tree, or is that story just a legend?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mp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. Dad washes dishes by hand Mom puts them in the dishwasher.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un-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. The wind howls, and the hikers huddle in their tents and drink hot soup.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mp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.  The engine sputters and coughs, the car jerks forward and then stops.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un-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ound subjects and compound predic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 two simple subjects are joined b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b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oth…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compound subject is plural.  Use the plural form of the verb to agree with the plural compound su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simple subjects are joined together b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r, either…or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neither…nor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erb must agree with the nearer simple su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ound subjects and compound predic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ither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harlot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n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mi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y favorite auth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mil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nearer subject, so the singular form of the verb is u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ound subjects and compound predic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ither her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ist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n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harlot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w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utgo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harlot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nearer subject, so the singular form of the verb is used here to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ound subjects and compound predic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ither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harlot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n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er sist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we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utgo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ist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nearer subject, so the plural form of the verb is u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ound subjects and compound predic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compound predic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sists of two or more simple predicates, or verbs, that have the same subject.  The verbs may be conn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d, or, but, both…and, either…or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neither…n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stud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rea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enjo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ove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verbs agree with the plural subject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ud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ing compound subjects and compound predic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rcle the correct form of the verb in parentheses.  Then underline the compound subjects once and the compound predicates tw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Rita Dove and Robert Frost (is, are) two famous American poe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The hotel guests either (reads, read) or (naps, nap) in the afterno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Both owls and raccoons (hunts, hunt) at n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The chef or his assistants (bakes, bake) and (decorates, decorate) the wedding cak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ing compound subjects and compound predic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Rita Do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bert Fro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is, 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a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two famous American poe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The hotel guests either (reads, 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or (naps, 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na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in the afterno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Both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w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acco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hunts, 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hu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at n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he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hi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ssista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bakes, 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bak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and (decorates, 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decor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the wedding cak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0T11:53:15Z</dcterms:created>
  <dc:creator>althofb</dc:creator>
  <dc:description/>
  <dc:language>en-US</dc:language>
  <cp:lastModifiedBy>althofb</cp:lastModifiedBy>
  <dcterms:modified xsi:type="dcterms:W3CDTF">2007-07-20T12:08:11Z</dcterms:modified>
  <cp:revision>2</cp:revision>
  <dc:subject/>
  <dc:title>Compound subjects and compound predicates</dc:title>
</cp:coreProperties>
</file>