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0EC-4ABA-4EDA-B6CF-0E12C281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C14-7BB0-4A9F-B0C2-67E58F97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BC2-8E29-42E5-943A-3370B73B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5BC-0199-47AE-A4F5-32EF1874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6E9-6631-4881-8669-AF0FB44D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D47-41FB-47CA-BC04-224C0C8F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20C-6AE7-4EDE-900E-19AE466D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3F0-9C58-416F-AFC8-3802974E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ACF-0461-445F-841A-8E325E75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AAA-4A62-4EFC-8023-5D5BFE2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1D9-0E53-4479-940A-59B1F8BF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382-038C-4F58-A25C-28D64EC7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4B83-3D54-41FE-912D-78E2FDEB6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481040" y="131760"/>
            <a:ext cx="9579240" cy="1309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1878120" y="1441440"/>
            <a:ext cx="879768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101.tiff"/>
          <p:cNvPicPr/>
          <p:nvPr/>
        </p:nvPicPr>
        <p:blipFill>
          <a:blip r:embed="rId1"/>
          <a:stretch/>
        </p:blipFill>
        <p:spPr>
          <a:xfrm>
            <a:off x="2540160" y="1733400"/>
            <a:ext cx="8162640" cy="65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11.tiff"/>
          <p:cNvPicPr/>
          <p:nvPr/>
        </p:nvPicPr>
        <p:blipFill>
          <a:blip r:embed="rId1"/>
          <a:stretch/>
        </p:blipFill>
        <p:spPr>
          <a:xfrm>
            <a:off x="2143080" y="344520"/>
            <a:ext cx="8413920" cy="91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21.tiff"/>
          <p:cNvPicPr/>
          <p:nvPr/>
        </p:nvPicPr>
        <p:blipFill>
          <a:blip r:embed="rId1"/>
          <a:stretch/>
        </p:blipFill>
        <p:spPr>
          <a:xfrm>
            <a:off x="1693800" y="1019160"/>
            <a:ext cx="10066320" cy="5423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7553160" y="721044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31.tiff"/>
          <p:cNvPicPr/>
          <p:nvPr/>
        </p:nvPicPr>
        <p:blipFill>
          <a:blip r:embed="rId1"/>
          <a:stretch/>
        </p:blipFill>
        <p:spPr>
          <a:xfrm>
            <a:off x="2143080" y="3306600"/>
            <a:ext cx="9379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41.tiff"/>
          <p:cNvPicPr/>
          <p:nvPr/>
        </p:nvPicPr>
        <p:blipFill>
          <a:blip r:embed="rId1"/>
          <a:stretch/>
        </p:blipFill>
        <p:spPr>
          <a:xfrm>
            <a:off x="992160" y="1600200"/>
            <a:ext cx="11085480" cy="5491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8083440" y="78058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51.tiff"/>
          <p:cNvPicPr/>
          <p:nvPr/>
        </p:nvPicPr>
        <p:blipFill>
          <a:blip r:embed="rId1"/>
          <a:stretch/>
        </p:blipFill>
        <p:spPr>
          <a:xfrm>
            <a:off x="1362240" y="3108240"/>
            <a:ext cx="96980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61.tiff"/>
          <p:cNvPicPr/>
          <p:nvPr/>
        </p:nvPicPr>
        <p:blipFill>
          <a:blip r:embed="rId1"/>
          <a:stretch/>
        </p:blipFill>
        <p:spPr>
          <a:xfrm>
            <a:off x="806400" y="766800"/>
            <a:ext cx="10398240" cy="5848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345280" y="7473960"/>
            <a:ext cx="6076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71.tiff"/>
          <p:cNvPicPr/>
          <p:nvPr/>
        </p:nvPicPr>
        <p:blipFill>
          <a:blip r:embed="rId1"/>
          <a:stretch/>
        </p:blipFill>
        <p:spPr>
          <a:xfrm>
            <a:off x="1838160" y="2844720"/>
            <a:ext cx="98427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81.tiff"/>
          <p:cNvPicPr/>
          <p:nvPr/>
        </p:nvPicPr>
        <p:blipFill>
          <a:blip r:embed="rId1"/>
          <a:stretch/>
        </p:blipFill>
        <p:spPr>
          <a:xfrm>
            <a:off x="1243080" y="2646360"/>
            <a:ext cx="9975960" cy="2698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647120" y="5965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3122640"/>
            <a:ext cx="106632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023920" y="384120"/>
            <a:ext cx="9485280" cy="92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201.tiff"/>
          <p:cNvPicPr/>
          <p:nvPr/>
        </p:nvPicPr>
        <p:blipFill>
          <a:blip r:embed="rId1"/>
          <a:stretch/>
        </p:blipFill>
        <p:spPr>
          <a:xfrm>
            <a:off x="1270080" y="1428840"/>
            <a:ext cx="11734560" cy="5503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434360" y="821520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727200"/>
            <a:ext cx="9472680" cy="7832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595840" y="91155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2631960" y="4194000"/>
            <a:ext cx="8150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222640" y="1177920"/>
            <a:ext cx="7580160" cy="70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143080" y="1560600"/>
            <a:ext cx="77122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1282680"/>
            <a:ext cx="715644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3214800" y="1878120"/>
            <a:ext cx="66801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909880" y="304920"/>
            <a:ext cx="6389640" cy="89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381400" y="1574640"/>
            <a:ext cx="7699320" cy="69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3043080" y="781200"/>
            <a:ext cx="5953320" cy="86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27:24Z</dcterms:created>
  <dc:creator> </dc:creator>
  <dc:description/>
  <dc:language>en-US</dc:language>
  <cp:lastModifiedBy> </cp:lastModifiedBy>
  <dcterms:modified xsi:type="dcterms:W3CDTF">2009-02-17T23:27:28Z</dcterms:modified>
  <cp:revision>1</cp:revision>
  <dc:subject/>
  <dc:title>Slide 1</dc:title>
</cp:coreProperties>
</file>