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E53-04A7-49F4-AF6E-2E25B759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6CD-EC0B-4DD0-9143-E95C13AF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7D4-08C5-4EBD-B5D2-9F0C1A68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53A-49E2-4169-B096-D8CF836F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C8D-873E-4E4F-878B-F6D65D8B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D38-6957-4290-A7BD-3928EA6C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4CB-CE8A-47E0-AA00-121151C5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E8A-A06B-4C43-98F7-3F2BE45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86E-2972-44A1-B9FB-178AA904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AB1-1A80-4875-B082-BFE44E0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314-A7EB-4369-B816-6C97054E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810-8759-4E10-9AD1-EC6EE7B8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D4E0-164B-4B9A-9181-C4E522C7B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481040" y="131760"/>
            <a:ext cx="9579240" cy="130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1878120" y="1441440"/>
            <a:ext cx="879768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101.tiff"/>
          <p:cNvPicPr/>
          <p:nvPr/>
        </p:nvPicPr>
        <p:blipFill>
          <a:blip r:embed="rId1"/>
          <a:stretch/>
        </p:blipFill>
        <p:spPr>
          <a:xfrm>
            <a:off x="2540160" y="1733400"/>
            <a:ext cx="816264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11.tiff"/>
          <p:cNvPicPr/>
          <p:nvPr/>
        </p:nvPicPr>
        <p:blipFill>
          <a:blip r:embed="rId1"/>
          <a:stretch/>
        </p:blipFill>
        <p:spPr>
          <a:xfrm>
            <a:off x="2143080" y="344520"/>
            <a:ext cx="8413920" cy="91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21.tiff"/>
          <p:cNvPicPr/>
          <p:nvPr/>
        </p:nvPicPr>
        <p:blipFill>
          <a:blip r:embed="rId1"/>
          <a:stretch/>
        </p:blipFill>
        <p:spPr>
          <a:xfrm>
            <a:off x="1693800" y="1019160"/>
            <a:ext cx="10066320" cy="5423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553160" y="721044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31.tiff"/>
          <p:cNvPicPr/>
          <p:nvPr/>
        </p:nvPicPr>
        <p:blipFill>
          <a:blip r:embed="rId1"/>
          <a:stretch/>
        </p:blipFill>
        <p:spPr>
          <a:xfrm>
            <a:off x="2143080" y="3306600"/>
            <a:ext cx="9379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41.tiff"/>
          <p:cNvPicPr/>
          <p:nvPr/>
        </p:nvPicPr>
        <p:blipFill>
          <a:blip r:embed="rId1"/>
          <a:stretch/>
        </p:blipFill>
        <p:spPr>
          <a:xfrm>
            <a:off x="992160" y="1600200"/>
            <a:ext cx="11085480" cy="5491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8083440" y="78058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51.tiff"/>
          <p:cNvPicPr/>
          <p:nvPr/>
        </p:nvPicPr>
        <p:blipFill>
          <a:blip r:embed="rId1"/>
          <a:stretch/>
        </p:blipFill>
        <p:spPr>
          <a:xfrm>
            <a:off x="1362240" y="3108240"/>
            <a:ext cx="96980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61.tiff"/>
          <p:cNvPicPr/>
          <p:nvPr/>
        </p:nvPicPr>
        <p:blipFill>
          <a:blip r:embed="rId1"/>
          <a:stretch/>
        </p:blipFill>
        <p:spPr>
          <a:xfrm>
            <a:off x="806400" y="766800"/>
            <a:ext cx="10398240" cy="5848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345280" y="7473960"/>
            <a:ext cx="6076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71.tiff"/>
          <p:cNvPicPr/>
          <p:nvPr/>
        </p:nvPicPr>
        <p:blipFill>
          <a:blip r:embed="rId1"/>
          <a:stretch/>
        </p:blipFill>
        <p:spPr>
          <a:xfrm>
            <a:off x="1838160" y="2844720"/>
            <a:ext cx="98427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81.tiff"/>
          <p:cNvPicPr/>
          <p:nvPr/>
        </p:nvPicPr>
        <p:blipFill>
          <a:blip r:embed="rId1"/>
          <a:stretch/>
        </p:blipFill>
        <p:spPr>
          <a:xfrm>
            <a:off x="1243080" y="2646360"/>
            <a:ext cx="9975960" cy="269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647120" y="5965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3122640"/>
            <a:ext cx="106632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023920" y="384120"/>
            <a:ext cx="9485280" cy="92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201.tiff"/>
          <p:cNvPicPr/>
          <p:nvPr/>
        </p:nvPicPr>
        <p:blipFill>
          <a:blip r:embed="rId1"/>
          <a:stretch/>
        </p:blipFill>
        <p:spPr>
          <a:xfrm>
            <a:off x="1270080" y="1428840"/>
            <a:ext cx="11734560" cy="5503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434360" y="821520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727200"/>
            <a:ext cx="9472680" cy="7832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595840" y="91155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2631960" y="4194000"/>
            <a:ext cx="8150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222640" y="1177920"/>
            <a:ext cx="758016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143080" y="1560600"/>
            <a:ext cx="77122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1282680"/>
            <a:ext cx="71564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3214800" y="1878120"/>
            <a:ext cx="66801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909880" y="304920"/>
            <a:ext cx="6389640" cy="89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381400" y="1574640"/>
            <a:ext cx="7699320" cy="699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3043080" y="781200"/>
            <a:ext cx="5953320" cy="86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27:24Z</dcterms:created>
  <dc:creator> </dc:creator>
  <dc:description/>
  <dc:language>en-US</dc:language>
  <cp:lastModifiedBy> </cp:lastModifiedBy>
  <dcterms:modified xsi:type="dcterms:W3CDTF">2009-02-17T23:27:28Z</dcterms:modified>
  <cp:revision>1</cp:revision>
  <dc:subject/>
  <dc:title>Slide 1</dc:title>
</cp:coreProperties>
</file>