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2AB-48C0-4CA2-AADD-77645901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41B-0169-497D-AD9D-EF220D3C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D51-4037-4F3F-B3EC-0AA4D6D0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91B-B51E-458B-9BB2-C04CDCF2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E69-D6B7-435F-BA0A-0A6CE84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1FC-A262-49FB-BDF4-6171872C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7D4-D416-4A68-840C-DA44853C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72A-DCCA-4E85-BBE9-97847E2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CD8-7449-42AB-AC4B-D2CABB2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08D-F957-4D17-B78C-ECF92DC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B10-8109-4112-A207-2008C78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878-C4F1-49AB-B6E3-83035E3F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0DC-84C3-474A-A383-9E73044B9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481040" y="131760"/>
            <a:ext cx="95792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1878120" y="1441440"/>
            <a:ext cx="87976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540160" y="1733400"/>
            <a:ext cx="816264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11.tiff"/>
          <p:cNvPicPr/>
          <p:nvPr/>
        </p:nvPicPr>
        <p:blipFill>
          <a:blip r:embed="rId1"/>
          <a:stretch/>
        </p:blipFill>
        <p:spPr>
          <a:xfrm>
            <a:off x="2143080" y="344520"/>
            <a:ext cx="84139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21.tiff"/>
          <p:cNvPicPr/>
          <p:nvPr/>
        </p:nvPicPr>
        <p:blipFill>
          <a:blip r:embed="rId1"/>
          <a:stretch/>
        </p:blipFill>
        <p:spPr>
          <a:xfrm>
            <a:off x="1693800" y="1019160"/>
            <a:ext cx="10066320" cy="542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553160" y="721044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31.tiff"/>
          <p:cNvPicPr/>
          <p:nvPr/>
        </p:nvPicPr>
        <p:blipFill>
          <a:blip r:embed="rId1"/>
          <a:stretch/>
        </p:blipFill>
        <p:spPr>
          <a:xfrm>
            <a:off x="2143080" y="3306600"/>
            <a:ext cx="9379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41.tiff"/>
          <p:cNvPicPr/>
          <p:nvPr/>
        </p:nvPicPr>
        <p:blipFill>
          <a:blip r:embed="rId1"/>
          <a:stretch/>
        </p:blipFill>
        <p:spPr>
          <a:xfrm>
            <a:off x="992160" y="1600200"/>
            <a:ext cx="11085480" cy="549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083440" y="78058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51.tiff"/>
          <p:cNvPicPr/>
          <p:nvPr/>
        </p:nvPicPr>
        <p:blipFill>
          <a:blip r:embed="rId1"/>
          <a:stretch/>
        </p:blipFill>
        <p:spPr>
          <a:xfrm>
            <a:off x="1362240" y="3108240"/>
            <a:ext cx="96980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61.tiff"/>
          <p:cNvPicPr/>
          <p:nvPr/>
        </p:nvPicPr>
        <p:blipFill>
          <a:blip r:embed="rId1"/>
          <a:stretch/>
        </p:blipFill>
        <p:spPr>
          <a:xfrm>
            <a:off x="806400" y="766800"/>
            <a:ext cx="10398240" cy="5848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345280" y="7473960"/>
            <a:ext cx="6076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71.tiff"/>
          <p:cNvPicPr/>
          <p:nvPr/>
        </p:nvPicPr>
        <p:blipFill>
          <a:blip r:embed="rId1"/>
          <a:stretch/>
        </p:blipFill>
        <p:spPr>
          <a:xfrm>
            <a:off x="1838160" y="2844720"/>
            <a:ext cx="9842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81.tiff"/>
          <p:cNvPicPr/>
          <p:nvPr/>
        </p:nvPicPr>
        <p:blipFill>
          <a:blip r:embed="rId1"/>
          <a:stretch/>
        </p:blipFill>
        <p:spPr>
          <a:xfrm>
            <a:off x="1243080" y="2646360"/>
            <a:ext cx="9975960" cy="269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647120" y="5965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3122640"/>
            <a:ext cx="10663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023920" y="384120"/>
            <a:ext cx="9485280" cy="92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201.tiff"/>
          <p:cNvPicPr/>
          <p:nvPr/>
        </p:nvPicPr>
        <p:blipFill>
          <a:blip r:embed="rId1"/>
          <a:stretch/>
        </p:blipFill>
        <p:spPr>
          <a:xfrm>
            <a:off x="1270080" y="1428840"/>
            <a:ext cx="11734560" cy="5503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434360" y="821520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727200"/>
            <a:ext cx="9472680" cy="783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595840" y="91155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2631960" y="4194000"/>
            <a:ext cx="8150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222640" y="1177920"/>
            <a:ext cx="75801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143080" y="1560600"/>
            <a:ext cx="77122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1282680"/>
            <a:ext cx="7156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3214800" y="1878120"/>
            <a:ext cx="6680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909880" y="304920"/>
            <a:ext cx="6389640" cy="89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381400" y="1574640"/>
            <a:ext cx="7699320" cy="69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43080" y="781200"/>
            <a:ext cx="5953320" cy="86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7:24Z</dcterms:created>
  <dc:creator> </dc:creator>
  <dc:description/>
  <dc:language>en-US</dc:language>
  <cp:lastModifiedBy> </cp:lastModifiedBy>
  <dcterms:modified xsi:type="dcterms:W3CDTF">2009-02-17T23:27:28Z</dcterms:modified>
  <cp:revision>1</cp:revision>
  <dc:subject/>
  <dc:title>Slide 1</dc:title>
</cp:coreProperties>
</file>