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C6F3-9B96-4D7E-9133-673F1BCCF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person i did this powerpoint on was C.S. Lewis. By: Deanna DeCenzo</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was born November 29,1898. He died November 22,1963. His full name is Clive Staples Lewis. Lewis is known to his close friends as Jack. He was born in Ireland. The reason he was born in Ireland, was because his dad Richard came to Irealnd during the mid 19th century, and his mom was the daughter of the Anglican Pries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reason his friends called him Jack, ws because when he was little, he had a dog named Jacksie, who got hit by a car so when he was 4 he would accept no name except Jacksie. When he was 7 he moved into a house called little leah. Mr. Lewis buitl the house for Mrs. Lewis, in Standtown area of East Belfast. Lewis was homeschooled for part of his life, but eventually went to many diferent school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is mom died from cancer just before he went to wynard school. Lewis aslo attend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ampbell collage , but left early do to health problems. Since Lewis was sick, he was sent to a health resort, where he attended preperatory school. While there , 15 year old Lewis became atheist. He then he strongly like mythology.</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e returned to Christianity at age 33. Later he married. Her name was Joy who died 5 years later from bone cancer. Lewis's work has been translated into many languages and made millions. The chronicles of narnia books  have made a lot of money, and  have turned into movi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In June 1961 he bagan experiencing medical problems. He was diagnosed with inflammed kidneys, which resulted in blood poisoning. Lewis had his ups and downs but died in his room around 5:30, about a week from his 65th birthda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live Staples Lewis achieved many things for example, he was a medievalist, Christian Apologist, Literary Critic, an academic, a radio broadcaster, and an essayis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Lewis wrote many stories, but some of his most popular are listed below, The Screwtape Letters. The Chronicles of Narnia , and the Space Trilog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thank you for all you have done, may you rest in pea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CC490-0DFB-479A-B1BA-18558A7F7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8FC1E-BB71-42F7-A990-E8718DD0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16992-2FDF-4071-8750-61DFF8C82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7DC2-8FC4-4E98-81F4-93D09AE27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30E5E-71A8-43A2-83C2-C29662B8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40AD8-74E9-4A3F-B87E-F9BC26EB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CEED-D6CF-43B9-B44F-C6BE9AF5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1FF4-1696-4ABC-8A92-E7D54A8CF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D854-4ACB-413A-BC94-0B54AF957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BF68-E64C-44DB-A3E3-8CF1A9F2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120D-34AC-4D68-A564-EBC96810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CC8E-551A-4DBC-A637-82F049203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72A9-02AF-4B9E-B5D9-467CDE76D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81200" y="177840"/>
            <a:ext cx="845496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S. Lewi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817280" y="6008760"/>
            <a:ext cx="6615000" cy="931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 Deanna DeCenz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od: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3320" y="142920"/>
            <a:ext cx="9774000" cy="129384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 </a:t>
            </a:r>
            <a:r>
              <a:rPr b="0" lang="en-US" sz="3200" spc="-1" strike="noStrike">
                <a:solidFill>
                  <a:srgbClr val="ff00ff"/>
                </a:solidFill>
                <a:latin typeface="Arial"/>
              </a:rPr>
              <a:t>C.S. Lewis was born November 29,1898</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died November 22, 1963</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ull name is Clive Staple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is know to his friends as Jack</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was born in Ireland</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ather Richard came to Ireland during the mid-19 century</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mother was Florence, the daughter of the Anglican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960" y="88560"/>
            <a:ext cx="9669240" cy="186228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 reason his nickname was Jack was because his dog got run over a car when he was 4 , he announced his new name as Jacksie and wouldn't except anything else.</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When he was 7 he moved into a house called "Little Leah"</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The elder Mr. Lewis built the house for the elder Mr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It is in the standtown arear of East Belfa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ewis was home schooled before being sent to Wynard school in, 19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87480"/>
            <a:ext cx="9658080" cy="1836720"/>
          </a:xfrm>
          <a:prstGeom prst="rect">
            <a:avLst/>
          </a:prstGeom>
          <a:noFill/>
          <a:ln w="0">
            <a:noFill/>
          </a:ln>
        </p:spPr>
        <p:txBody>
          <a:bodyPr lIns="0" rIns="0" tIns="0" bIns="0" anchor="t">
            <a:noAutofit/>
          </a:bodyPr>
          <a:p>
            <a:pPr algn="ctr">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S. Lewis's mom died from cancer just before he went to Wynard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Lewis attended Campbell Collage, but left early due to respitory problems.</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As a result of his illness, was sent to a health resort, where he attended preparatary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It was then when 15 year old Lewis abandoned his Christian faith, and became atheist, becoming interested strongly in myt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120" y="109080"/>
            <a:ext cx="9662760" cy="615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 returned to Christianity at age 33</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ater he married a woman named Joy, who sadly died of bone cancer 5 years later</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ewis's work has been translated into over 35 different languages and has made millions.</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Some of his books, have also been used for movies  and other media things.</a:t>
            </a:r>
            <a:br>
              <a:rPr sz="3200"/>
            </a:br>
            <a:r>
              <a:rPr b="0" lang="en-US" sz="3200" spc="-1" strike="noStrike">
                <a:solidFill>
                  <a:srgbClr val="ff00ff"/>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61560"/>
            <a:ext cx="9661680" cy="615960"/>
          </a:xfrm>
          <a:prstGeom prst="rect">
            <a:avLst/>
          </a:prstGeom>
          <a:noFill/>
          <a:ln w="0">
            <a:noFill/>
          </a:ln>
        </p:spPr>
        <p:txBody>
          <a:bodyPr lIns="0" rIns="0" tIns="0" bIns="0" anchor="t">
            <a:noAutofit/>
          </a:bodyPr>
          <a:p>
            <a:pPr algn="ctr">
              <a:lnSpc>
                <a:spcPct val="95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In early June ,1961 Lewis began experiencing medical problem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He was diagnosed with </a:t>
            </a:r>
            <a:r>
              <a:rPr b="0" lang="en-US" sz="3200" spc="-1" strike="noStrike">
                <a:solidFill>
                  <a:srgbClr val="000000"/>
                </a:solidFill>
                <a:latin typeface="Arial"/>
              </a:rPr>
              <a:t> </a:t>
            </a:r>
            <a:r>
              <a:rPr b="0" lang="en-US" sz="3200" spc="-1" strike="noStrike">
                <a:solidFill>
                  <a:srgbClr val="00ff00"/>
                </a:solidFill>
                <a:latin typeface="Arial"/>
              </a:rPr>
              <a:t>inflammation of the kidney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This resulted in blood poisoning.</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Lewis had his ups and downs but died in his room around 5:30, about a week from his 65th birth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7840" y="189000"/>
            <a:ext cx="9663120" cy="614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ve Staples Lewis achieved many things in life, and did many jobs...For example</a:t>
            </a:r>
            <a:br>
              <a:rPr sz="3200"/>
            </a:br>
            <a:r>
              <a:rPr b="0" lang="en-US" sz="3200" spc="-1" strike="noStrike">
                <a:solidFill>
                  <a:srgbClr val="ff00ff"/>
                </a:solidFill>
                <a:latin typeface="Arial"/>
              </a:rPr>
              <a:t>He was a ...</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Medieval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Christian Apolog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iterary Crit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 academ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 radio broadcaster</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d an essay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1080" y="237600"/>
            <a:ext cx="9672840" cy="605160"/>
          </a:xfrm>
          <a:prstGeom prst="rect">
            <a:avLst/>
          </a:prstGeom>
          <a:noFill/>
          <a:ln w="0">
            <a:noFill/>
          </a:ln>
        </p:spPr>
        <p:txBody>
          <a:bodyPr lIns="0" rIns="0" tIns="0" bIns="0" anchor="t">
            <a:noAutofit/>
          </a:bodyPr>
          <a:p>
            <a:pPr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Lewis created many stories, but some of his most popular are listed below....</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crewtape Letters</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Chronicles of Narnia</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pace Trilogy</a:t>
            </a:r>
            <a:endParaRPr b="0" lang="en-US" sz="3200" spc="-1" strike="noStrike">
              <a:solidFill>
                <a:srgbClr val="000000"/>
              </a:solidFill>
              <a:latin typeface="Times New Roman"/>
            </a:endParaRPr>
          </a:p>
        </p:txBody>
      </p:sp>
      <p:pic>
        <p:nvPicPr>
          <p:cNvPr id="57" name="" descr=""/>
          <p:cNvPicPr/>
          <p:nvPr/>
        </p:nvPicPr>
        <p:blipFill>
          <a:blip r:embed="rId2"/>
          <a:stretch/>
        </p:blipFill>
        <p:spPr>
          <a:xfrm>
            <a:off x="3489480" y="4286160"/>
            <a:ext cx="3349440" cy="30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4920" y="622440"/>
            <a:ext cx="9672840" cy="606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cc"/>
                </a:solidFill>
                <a:latin typeface="Arial"/>
              </a:rPr>
              <a:t>C.S. Lewis thank you for all you have done. May you rest in peace.</a:t>
            </a:r>
            <a:endParaRPr b="0" lang="en-US" sz="4800" spc="-1" strike="noStrike">
              <a:solidFill>
                <a:srgbClr val="000000"/>
              </a:solidFill>
              <a:latin typeface="Times New Roman"/>
            </a:endParaRPr>
          </a:p>
        </p:txBody>
      </p:sp>
      <p:pic>
        <p:nvPicPr>
          <p:cNvPr id="59" name="" descr=""/>
          <p:cNvPicPr/>
          <p:nvPr/>
        </p:nvPicPr>
        <p:blipFill>
          <a:blip r:embed="rId2"/>
          <a:stretch/>
        </p:blipFill>
        <p:spPr>
          <a:xfrm>
            <a:off x="2666880" y="2655720"/>
            <a:ext cx="4488120" cy="459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anovar</cp:lastModifiedBy>
  <dcterms:modified xsi:type="dcterms:W3CDTF">2008-12-08T14:16:15Z</dcterms:modified>
  <cp:revision>1</cp:revision>
  <dc:subject/>
  <dc:title>PowerPoint Presentation</dc:title>
</cp:coreProperties>
</file>