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7698-F3CD-4C18-9F31-AF902ED8A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1DE4-94CD-443F-8252-59F9FF117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69A3-3DA8-413C-8EBA-DD2102347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E2D2-448D-492B-BBA6-E032A5804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DC41-56C0-4CDB-8903-F40983718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5262-BCF4-4142-9435-4786ACBD3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3C22-3255-4DE0-9A59-4E96BEBF1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2990-D6D3-4091-9D8F-33D6920EF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2C86-D1A0-4A8B-AA91-DEDA46C4D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DD83-D08A-4F8F-BDBD-73E86E31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C909-EA7B-465D-BF45-A9950299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BD88-5A9C-4DB6-A492-9D8B889F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75E49-AAA2-4120-BCC1-C3184DFE0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20:20:26Z</dcterms:created>
  <dc:creator>schottw</dc:creator>
  <dc:description/>
  <dc:language>en-US</dc:language>
  <cp:lastModifiedBy>schottw</cp:lastModifiedBy>
  <dcterms:modified xsi:type="dcterms:W3CDTF">2008-03-18T20:20:29Z</dcterms:modified>
  <cp:revision>1</cp:revision>
  <dc:subject/>
  <dc:title>Slide 1</dc:title>
</cp:coreProperties>
</file>