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426-C9A9-4B21-B527-DBC77D86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D9B-F1C6-410E-9A2F-3F043448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A2B-2CBC-4A91-9ED1-F25C4317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73D-83D6-477C-A5BB-8429C8BB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344-C362-40E2-8746-1A75A4C8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14F-4C6A-4558-AA81-B01642C9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017-50FE-45D7-9A31-4DCE7AF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E7A-5E2F-47D2-9BFC-B64BEF68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270-E80A-48AB-B863-7EF94CC0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A84-2CAB-41A8-8F4E-C74E52D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FB4-C5BC-4FAE-A43E-7F4F3CD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CB8-E7CE-4BC8-BDBC-E01DFB54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305-1D03-4554-BF4E-7523D430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26Z</dcterms:created>
  <dc:creator>schottw</dc:creator>
  <dc:description/>
  <dc:language>en-US</dc:language>
  <cp:lastModifiedBy>schottw</cp:lastModifiedBy>
  <dcterms:modified xsi:type="dcterms:W3CDTF">2008-03-18T20:20:29Z</dcterms:modified>
  <cp:revision>1</cp:revision>
  <dc:subject/>
  <dc:title>Slide 1</dc:title>
</cp:coreProperties>
</file>