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8F2-71BE-4AA0-8A7E-3CB56F4E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F3B2-7FE6-47E6-8297-8E8C8409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71C-C86C-4E49-83BF-2596B806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52A-66A9-4536-8F44-0A0A4F58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1101-A86B-4E26-AD04-3FA13749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AD53-10F4-4E53-8D59-356290A8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16B5-A7AB-493F-A8FC-61E0A146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9E31-6284-4FE6-8FB6-7491FCB1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FAE-C3A6-438D-8C59-C68ED84F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A7CC-291F-4688-BC58-A610FFBE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330-2D7E-401E-97F4-E6B8D1F1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573-9E9D-4039-B46F-F23D5743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2AFB-843D-46E4-93EC-AC6A15E32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0:26Z</dcterms:created>
  <dc:creator>schottw</dc:creator>
  <dc:description/>
  <dc:language>en-US</dc:language>
  <cp:lastModifiedBy>schottw</cp:lastModifiedBy>
  <dcterms:modified xsi:type="dcterms:W3CDTF">2008-03-18T20:20:29Z</dcterms:modified>
  <cp:revision>1</cp:revision>
  <dc:subject/>
  <dc:title>Slide 1</dc:title>
</cp:coreProperties>
</file>