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2D4-C4D0-482C-A1A1-7616F45C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758-3537-44BE-B3C8-17E59BF0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DF5-45EA-4A03-9AEC-07BBC16B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346-FCBE-4E0C-8355-FDE0410C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BFD-3C6B-441C-BC24-FF13AAAA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C64-62C6-4BAE-9638-9C0A9058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960-92D4-476E-BDD5-EBEF5E90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D17-BF16-469D-B554-E341B9D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0E01-6A11-4027-B060-87E85841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C28-4418-4DCB-91A0-A30003C9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F10-DE08-4877-935E-A628B95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841-6004-4BBF-97F9-8DE7F094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80C2-551F-4B49-811F-D23DD3B80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26Z</dcterms:created>
  <dc:creator>schottw</dc:creator>
  <dc:description/>
  <dc:language>en-US</dc:language>
  <cp:lastModifiedBy>schottw</cp:lastModifiedBy>
  <dcterms:modified xsi:type="dcterms:W3CDTF">2008-03-18T20:20:29Z</dcterms:modified>
  <cp:revision>1</cp:revision>
  <dc:subject/>
  <dc:title>Slide 1</dc:title>
</cp:coreProperties>
</file>