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7ED-AE9E-4FCB-B00C-B8293EB3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235E-B125-4EC1-AFF3-FB3EB2A1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0F3-AEBD-478B-98D2-76417340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E84-C48E-41DC-8EF5-3BF7BF82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E86F-92B3-4C5F-952D-32225DDD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0498-86DF-4446-A16A-CD7B214C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A9C7-FE79-49DD-A371-1844D8F3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49F-5BF5-4A02-8A4F-BDCC613D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0FF-62A2-4883-A38D-670DEB75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9E50-374C-4408-9BFC-18F85FB7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5B3E-C49C-4332-815B-3B3CA153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ACA-17C2-4E4E-9A58-F8620C8D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2440-2D7F-4543-A6F9-EFD552E3D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0:26Z</dcterms:created>
  <dc:creator>schottw</dc:creator>
  <dc:description/>
  <dc:language>en-US</dc:language>
  <cp:lastModifiedBy>schottw</cp:lastModifiedBy>
  <dcterms:modified xsi:type="dcterms:W3CDTF">2008-03-18T20:20:29Z</dcterms:modified>
  <cp:revision>1</cp:revision>
  <dc:subject/>
  <dc:title>Slide 1</dc:title>
</cp:coreProperties>
</file>