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A68-75BC-4DC3-A6AA-291B68E5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267-D1DA-438F-89FE-48AEA576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81A-EB52-44BA-BCC0-D3E60A0F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983-E0CE-44DF-B086-82911BFD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7BF-FCCD-4520-906E-47D11AF9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39E-AF22-43EF-BCFF-096A5E9E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E7F-9781-437C-882D-851E84BB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70F-C4EC-46B0-A408-3841555F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C34-37EF-4DF6-8D88-4E67FB69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205-C43E-49FA-BB62-9358EA56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ECC-9DEC-425C-93F3-13E63C06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B1A-6968-4B59-ABCC-5493BA23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3AF2-78C0-42F5-BE10-65062D726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0:04Z</dcterms:created>
  <dc:creator>schottw</dc:creator>
  <dc:description/>
  <dc:language>en-US</dc:language>
  <cp:lastModifiedBy>schottw</cp:lastModifiedBy>
  <dcterms:modified xsi:type="dcterms:W3CDTF">2008-03-18T20:20:07Z</dcterms:modified>
  <cp:revision>1</cp:revision>
  <dc:subject/>
  <dc:title>Slide 1</dc:title>
</cp:coreProperties>
</file>