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E91-125E-4200-A5A7-B448D7F2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282-18D7-47CF-B610-D116B4D3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5B7-639E-48D0-9256-63B7572A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D80-0F71-41D4-B814-F335C513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5BA-42FF-4FE3-BD95-14179510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290-5261-402F-9E82-0EFE5B6C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618-282C-45B3-8426-91F072DC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336-2642-4B91-A950-ABD6DA2E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428-29BB-4DD9-B310-1297F4D0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602-F7E5-46CD-9C7E-990820C9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883-4D48-43FC-8435-FF2B0A71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404-4BF1-4736-AADC-185DB096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BA0B-2A7C-44EB-A01A-8FDE6D1A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04Z</dcterms:created>
  <dc:creator>schottw</dc:creator>
  <dc:description/>
  <dc:language>en-US</dc:language>
  <cp:lastModifiedBy>schottw</cp:lastModifiedBy>
  <dcterms:modified xsi:type="dcterms:W3CDTF">2008-03-18T20:20:07Z</dcterms:modified>
  <cp:revision>1</cp:revision>
  <dc:subject/>
  <dc:title>Slide 1</dc:title>
</cp:coreProperties>
</file>