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FC1-9D4B-41AC-8670-1AD62263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2E5-569C-405C-9484-7BF0A43B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F5A-3A2A-4B7C-8574-86F4F391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8C3-4593-47A7-B8E4-AF694950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89C-B6CB-4254-9ADD-F66A6ADE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CDF-0476-445A-A91D-149D18F1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C55-341E-431F-9757-EE2BF1EC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4AB-2BD3-4640-84F0-0EEFF85E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5B7-4526-406B-A344-D2C0BABD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FAC-8BC6-4340-BA48-CD5C527F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756-5561-49CB-94FE-1DE64FA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6EE-9C5A-42CB-A315-1047D0F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DD11-FDA2-47B0-856A-C1101408D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04Z</dcterms:created>
  <dc:creator>schottw</dc:creator>
  <dc:description/>
  <dc:language>en-US</dc:language>
  <cp:lastModifiedBy>schottw</cp:lastModifiedBy>
  <dcterms:modified xsi:type="dcterms:W3CDTF">2008-03-18T20:20:07Z</dcterms:modified>
  <cp:revision>1</cp:revision>
  <dc:subject/>
  <dc:title>Slide 1</dc:title>
</cp:coreProperties>
</file>