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BEC-085C-48B4-911E-4A5472EB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B8D-2429-4E2F-8F72-E4089423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041-43BD-4003-88B1-320BEE12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20B-03F0-4BF0-A7DD-7A63508C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88C-79C6-4EF1-B56A-42DC0490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0BB-2FD3-456E-A22E-A677876F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B28-EFF5-4BD7-B10D-F542E4F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19F-2642-4FFB-AFE4-4AFE796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CDA-014D-49A4-A100-770101CF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06D-B0A6-48C0-A544-19176EC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EA5-0A07-4B6B-B03D-452C408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E2F-968D-46A1-894C-7B17130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FFF6-CFC9-43E2-AEA4-1E02E93B8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04Z</dcterms:created>
  <dc:creator>schottw</dc:creator>
  <dc:description/>
  <dc:language>en-US</dc:language>
  <cp:lastModifiedBy>schottw</cp:lastModifiedBy>
  <dcterms:modified xsi:type="dcterms:W3CDTF">2008-03-18T20:20:07Z</dcterms:modified>
  <cp:revision>1</cp:revision>
  <dc:subject/>
  <dc:title>Slide 1</dc:title>
</cp:coreProperties>
</file>