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F6C-F36C-4661-97BE-2B3B699E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2F5-C317-45FE-8C07-E0741BDA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4FF-E9CC-435C-8972-CB4DB0A7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019-5B50-4365-9281-05D0826A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4B4-608D-407D-8EB9-5BB5D297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478-08FC-40D5-ADE7-CE4B9E18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1D7-1182-4969-ABF5-98D5A4D2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8FA-CDFA-4033-A386-972AC0B5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367-3A7F-4EBC-9C67-0F5D078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8D6-88A9-4913-8CD4-9343E3FB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EC4-CEE9-4093-8EA4-82131F2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A39-C996-45E1-999D-0627D59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39BA-CBF7-48F4-B87F-027E4C579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403440" y="-25560"/>
            <a:ext cx="8471160" cy="237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797280" y="2527200"/>
            <a:ext cx="869940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730600" y="393840"/>
            <a:ext cx="9474120" cy="8394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3068360" y="42418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3429000" y="546120"/>
            <a:ext cx="8547120" cy="90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1308240"/>
            <a:ext cx="11328480" cy="6032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6146640" y="7975440"/>
            <a:ext cx="698760" cy="55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2844720" y="165240"/>
            <a:ext cx="10287000" cy="93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2641680" y="1371600"/>
            <a:ext cx="9956880" cy="4356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222960" y="66549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2857680" y="419040"/>
            <a:ext cx="10007280" cy="93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2502000" y="457200"/>
            <a:ext cx="11620440" cy="6235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959520" y="7721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3365640" y="279360"/>
            <a:ext cx="9639000" cy="87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3581280" y="1892160"/>
            <a:ext cx="10642680" cy="4077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6197760" y="65912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2514600" y="482760"/>
            <a:ext cx="10007640" cy="923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4038480" y="330120"/>
            <a:ext cx="7988400" cy="91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2997360" y="1231920"/>
            <a:ext cx="10248840" cy="6667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6477120" y="8547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3695760" y="1219320"/>
            <a:ext cx="920736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83160" y="1384200"/>
            <a:ext cx="10959840" cy="74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3835440" y="1625760"/>
            <a:ext cx="7404120" cy="56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3822840" y="2527200"/>
            <a:ext cx="7975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4165560" y="1955880"/>
            <a:ext cx="8293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3632040" y="2171880"/>
            <a:ext cx="9296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3873600" y="2654280"/>
            <a:ext cx="75308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60720" y="419040"/>
            <a:ext cx="960120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1:25:43Z</dcterms:created>
  <dc:creator> </dc:creator>
  <dc:description/>
  <dc:language>en-US</dc:language>
  <cp:lastModifiedBy> </cp:lastModifiedBy>
  <dcterms:modified xsi:type="dcterms:W3CDTF">2009-02-18T01:25:46Z</dcterms:modified>
  <cp:revision>1</cp:revision>
  <dc:subject/>
  <dc:title>Slide 1</dc:title>
</cp:coreProperties>
</file>