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B89-1A5E-4F6E-8F11-4E83FDA0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9A2-EC11-4878-BA3F-785F65B9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966-263F-40BC-B1FB-6A1218E3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835-7405-4FF5-8212-CEECFAA9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D60-14F5-4681-BBB6-E73F37FF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E2E-7C05-42CE-978A-FF159552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915-9D1D-4579-89B0-9771AD2C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F48-3812-491C-B8D9-DF19A25C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0D0-8CA8-40CC-A005-B22AE70B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C53-1755-4CDD-9633-C7FBD532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AE0-5475-4FA7-BACE-10F5590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135-0166-47CF-91D6-F7ECE909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C03D-7736-43E0-B848-719A6FCEF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3403440" y="-25560"/>
            <a:ext cx="8471160" cy="237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797280" y="2527200"/>
            <a:ext cx="869940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101.tiff"/>
          <p:cNvPicPr/>
          <p:nvPr/>
        </p:nvPicPr>
        <p:blipFill>
          <a:blip r:embed="rId1"/>
          <a:stretch/>
        </p:blipFill>
        <p:spPr>
          <a:xfrm>
            <a:off x="2730600" y="393840"/>
            <a:ext cx="9474120" cy="8394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3068360" y="424188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3429000" y="546120"/>
            <a:ext cx="8547120" cy="90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121.tiff"/>
          <p:cNvPicPr/>
          <p:nvPr/>
        </p:nvPicPr>
        <p:blipFill>
          <a:blip r:embed="rId1"/>
          <a:stretch/>
        </p:blipFill>
        <p:spPr>
          <a:xfrm>
            <a:off x="1892160" y="1308240"/>
            <a:ext cx="11328480" cy="6032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6146640" y="7975440"/>
            <a:ext cx="698760" cy="55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2844720" y="165240"/>
            <a:ext cx="10287000" cy="93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41.tiff"/>
          <p:cNvPicPr/>
          <p:nvPr/>
        </p:nvPicPr>
        <p:blipFill>
          <a:blip r:embed="rId1"/>
          <a:stretch/>
        </p:blipFill>
        <p:spPr>
          <a:xfrm>
            <a:off x="2641680" y="1371600"/>
            <a:ext cx="9956880" cy="4356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222960" y="66549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2857680" y="419040"/>
            <a:ext cx="10007280" cy="93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61.tiff"/>
          <p:cNvPicPr/>
          <p:nvPr/>
        </p:nvPicPr>
        <p:blipFill>
          <a:blip r:embed="rId1"/>
          <a:stretch/>
        </p:blipFill>
        <p:spPr>
          <a:xfrm>
            <a:off x="2502000" y="457200"/>
            <a:ext cx="11620440" cy="6235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959520" y="77216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3365640" y="279360"/>
            <a:ext cx="9639000" cy="87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81.tiff"/>
          <p:cNvPicPr/>
          <p:nvPr/>
        </p:nvPicPr>
        <p:blipFill>
          <a:blip r:embed="rId1"/>
          <a:stretch/>
        </p:blipFill>
        <p:spPr>
          <a:xfrm>
            <a:off x="3581280" y="1892160"/>
            <a:ext cx="10642680" cy="4077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6197760" y="659124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2514600" y="482760"/>
            <a:ext cx="10007640" cy="923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4038480" y="330120"/>
            <a:ext cx="7988400" cy="919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201.tiff"/>
          <p:cNvPicPr/>
          <p:nvPr/>
        </p:nvPicPr>
        <p:blipFill>
          <a:blip r:embed="rId1"/>
          <a:stretch/>
        </p:blipFill>
        <p:spPr>
          <a:xfrm>
            <a:off x="2997360" y="1231920"/>
            <a:ext cx="10248840" cy="6667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6477120" y="854712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211.tiff"/>
          <p:cNvPicPr/>
          <p:nvPr/>
        </p:nvPicPr>
        <p:blipFill>
          <a:blip r:embed="rId1"/>
          <a:stretch/>
        </p:blipFill>
        <p:spPr>
          <a:xfrm>
            <a:off x="3695760" y="1219320"/>
            <a:ext cx="9207360" cy="79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683160" y="1384200"/>
            <a:ext cx="10959840" cy="74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3835440" y="1625760"/>
            <a:ext cx="7404120" cy="56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3822840" y="2527200"/>
            <a:ext cx="7975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4165560" y="1955880"/>
            <a:ext cx="8293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3632040" y="2171880"/>
            <a:ext cx="9296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3873600" y="2654280"/>
            <a:ext cx="75308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3060720" y="419040"/>
            <a:ext cx="9601200" cy="9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1:25:43Z</dcterms:created>
  <dc:creator> </dc:creator>
  <dc:description/>
  <dc:language>en-US</dc:language>
  <cp:lastModifiedBy> </cp:lastModifiedBy>
  <dcterms:modified xsi:type="dcterms:W3CDTF">2009-02-18T01:25:46Z</dcterms:modified>
  <cp:revision>1</cp:revision>
  <dc:subject/>
  <dc:title>Slide 1</dc:title>
</cp:coreProperties>
</file>